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C70-9C5B-43F6-933F-8A6FAB89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E64-7A57-4495-AB6C-70BD847E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4A1-3A38-4E4A-A17D-77876106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619-A11A-43A4-B72F-8C2792C3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890-ABAA-467A-895B-3BE50928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033-7AB3-4C18-96CB-3921EABC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698-5315-477B-88BB-07C6720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136-8E34-4D9C-B630-BF28A194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3F3-51F3-432F-A729-F23604FD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944-D742-4565-8864-36E23D7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33D-45D6-4BA8-AB7E-2A99ABFD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005-608F-4D9E-8516-9F000FC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8ECE-64B5-4ED6-8024-588451406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  </a:t>
            </a: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ждународная Валюта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ллар и Ев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Users\user\Desktop\ea5d0c71d7ee86af90417752087bfef9.jpg"/>
          <p:cNvPicPr/>
          <p:nvPr/>
        </p:nvPicPr>
        <p:blipFill>
          <a:blip r:embed="rId1"/>
          <a:stretch/>
        </p:blipFill>
        <p:spPr>
          <a:xfrm>
            <a:off x="865080" y="2238480"/>
            <a:ext cx="81439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Сейчас на руках у </a:t>
            </a:r>
            <a:r>
              <a:rPr b="0" lang="ru-RU" sz="3500" spc="-1" strike="noStrike">
                <a:solidFill>
                  <a:srgbClr val="000000"/>
                </a:solidFill>
                <a:latin typeface="Georgia"/>
              </a:rPr>
              <a:t>казахстанцев 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имеются следующие бумажные 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Georgia"/>
              </a:rPr>
              <a:t>банкн</a:t>
            </a:r>
            <a:r>
              <a:rPr b="0" lang="ru-RU" sz="3500" spc="-1" strike="noStrike" u="sng">
                <a:solidFill>
                  <a:srgbClr val="000000"/>
                </a:solidFill>
                <a:uFillTx/>
                <a:latin typeface="Georgia"/>
              </a:rPr>
              <a:t>оты</a:t>
            </a:r>
            <a:r>
              <a:rPr b="0" lang="en-US" sz="3500" spc="-1" strike="noStrike">
                <a:solidFill>
                  <a:srgbClr val="000000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user\Desktop\tenge(2).jpg"/>
          <p:cNvPicPr/>
          <p:nvPr/>
        </p:nvPicPr>
        <p:blipFill>
          <a:blip r:embed="rId2"/>
          <a:stretch/>
        </p:blipFill>
        <p:spPr>
          <a:xfrm>
            <a:off x="722160" y="595440"/>
            <a:ext cx="82375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760" y="2200320"/>
            <a:ext cx="8636040" cy="457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user\Desktop\kupury.png"/>
          <p:cNvPicPr/>
          <p:nvPr/>
        </p:nvPicPr>
        <p:blipFill>
          <a:blip r:embed="rId2"/>
          <a:stretch/>
        </p:blipFill>
        <p:spPr>
          <a:xfrm>
            <a:off x="436680" y="523800"/>
            <a:ext cx="942948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2180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00"/>
                </a:solidFill>
                <a:uFillTx/>
                <a:latin typeface="Times New Roman"/>
              </a:rPr>
              <a:t>Викторина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. Когда была введена национальная валюта Казахстан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5 ноября 1993 год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. Какая валюта является международной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Доллар, евро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3. Как называлась денежная валюта Казахстана до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Рубл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2180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4. Как называлась наука о монетах и других денежных знаках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. Достоинством каких купюр в настоящий момент на территории Казахстана имеют  денежные знаки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200, 500, 1000, 2000, 5000, 10 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6. Что изображено на лицевой стороне наших банкнот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нтральной части расположен «Астана- Байтере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ередине банкноты на цветных полосах изображены фрагменты нот Государственного гимна, на который нанесено цифровое обозначение номин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 от монумента нанесен одним цветом Государственный герб РК. А в правой части- изображение Государственного флага. В нижней части банкноты изображена открытая ру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7. Что изображено на обратной стороне нашей банкноты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братная сторона содержит изображения ландшафтов и современных объектов архитектуры, обрамленные контуром карты Казахста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1760" y="952560"/>
            <a:ext cx="86360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. Какие разменные монеты денежного обращения имеет хождение на сегодняшний день на территории Казахстан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1, 2, 5, 10, 20, 50, 1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1023840"/>
            <a:ext cx="86360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9. Сколько степеней защиты имеет казахстанский тенг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первый денежный знак суверенного Казахстана. Кстати, само слово “деньги” произошло от тюркского “тенге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1760" y="809280"/>
            <a:ext cx="863604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СПАСИБ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ЗА ВНИМАНИЕ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1760" y="880560"/>
            <a:ext cx="86360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вторами тенг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тали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йрулли Габжалилов, Мендыбай Алин, Тимур Сулейменов и Арима-Сал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зельханов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2 ноябр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в понедельник, до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5 ноябр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шёл обмен тенг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1760" y="738000"/>
            <a:ext cx="863604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пример, американский доллар в то время имел 4 степени защиты, а наш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нге - 18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И, кстати, у нашего тенге есть ещё своя особенность 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Этот приём в мире вообще был использован впервые, и благодаря ему тенге очень удобно счита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1760" y="1238400"/>
            <a:ext cx="863604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етный двор появился в Усть-Каменогорске на базе металлургического завода. Монетный двор производит не только монеты, но и государственные наград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умизмати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ука о монетах и других денежных зна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er</cp:lastModifiedBy>
  <dcterms:modified xsi:type="dcterms:W3CDTF">2016-11-27T14:09:39Z</dcterms:modified>
  <cp:revision>10</cp:revision>
  <dc:subject/>
  <dc:title>PowerPoint Presentation</dc:title>
</cp:coreProperties>
</file>