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407-C7A3-488D-AC45-8A17F460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8BF-24C5-484F-A6FD-8F1D6367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4C4-BD1C-4625-BC1E-574F17C4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38E-8AF1-4C0B-838A-6F968586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0DA-A1A7-4475-A070-DC1F34DF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01E-F20B-4DBC-BF30-454F7BC7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76B-AC74-4BFE-AB32-485B8F1F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36D-3D88-4502-9B9B-7A6BA645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F11-DB6F-4B4D-A7BC-0803E7C8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440D-0126-4C91-B90E-D9128512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C12-E27E-41B7-A505-25AB502B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33E-5F0C-4F59-9588-D2BB1BC4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DBB7-2B22-4F3D-B0B1-A50AAB3F5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458640" y="-255600"/>
            <a:ext cx="10644120" cy="8075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47560" y="129708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ТЕНГЕ-  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НАЦИОНАЛЬНАЯ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  </a:t>
            </a: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ВАЛЮТА КАЗАХСТАНА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1760" y="738000"/>
            <a:ext cx="863604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ждународная Валюта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ллар и Ев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C:\Users\user\Desktop\ea5d0c71d7ee86af90417752087bfef9.jpg"/>
          <p:cNvPicPr/>
          <p:nvPr/>
        </p:nvPicPr>
        <p:blipFill>
          <a:blip r:embed="rId1"/>
          <a:stretch/>
        </p:blipFill>
        <p:spPr>
          <a:xfrm>
            <a:off x="865080" y="2238480"/>
            <a:ext cx="81439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93400"/>
            <a:ext cx="8602920" cy="77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</a:rPr>
              <a:t>Сейчас на руках у </a:t>
            </a:r>
            <a:r>
              <a:rPr b="0" lang="ru-RU" sz="3500" spc="-1" strike="noStrike">
                <a:solidFill>
                  <a:srgbClr val="000000"/>
                </a:solidFill>
                <a:latin typeface="Georgia"/>
              </a:rPr>
              <a:t>казахстанцев </a:t>
            </a:r>
            <a:r>
              <a:rPr b="0" lang="en-US" sz="3500" spc="-1" strike="noStrike">
                <a:solidFill>
                  <a:srgbClr val="000000"/>
                </a:solidFill>
                <a:latin typeface="Georgia"/>
              </a:rPr>
              <a:t>имеются следующие бумажные 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Georgia"/>
              </a:rPr>
              <a:t>банкн</a:t>
            </a:r>
            <a:r>
              <a:rPr b="0" lang="ru-RU" sz="3500" spc="-1" strike="noStrike" u="sng">
                <a:solidFill>
                  <a:srgbClr val="000000"/>
                </a:solidFill>
                <a:uFillTx/>
                <a:latin typeface="Georgia"/>
              </a:rPr>
              <a:t>оты</a:t>
            </a:r>
            <a:r>
              <a:rPr b="0" lang="en-US" sz="3500" spc="-1" strike="noStrike">
                <a:solidFill>
                  <a:srgbClr val="000000"/>
                </a:solidFill>
                <a:latin typeface="Georgia"/>
              </a:rPr>
              <a:t>: двести тенге, пятьсот  тенге, одна тысяча тенге, две тысячи, пять тысяч, десять тысяч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89080" y="2641680"/>
            <a:ext cx="96469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57600" y="68400"/>
            <a:ext cx="97268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41b47"/>
                </a:solidFill>
                <a:latin typeface="Georgia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95360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892840" y="4165560"/>
            <a:ext cx="3873600" cy="285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5892840" y="507960"/>
            <a:ext cx="3879720" cy="333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304920" y="4064040"/>
            <a:ext cx="3423960" cy="306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4"/>
          <a:stretch/>
        </p:blipFill>
        <p:spPr>
          <a:xfrm>
            <a:off x="406440" y="507960"/>
            <a:ext cx="3457440" cy="323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5"/>
          <a:stretch/>
        </p:blipFill>
        <p:spPr>
          <a:xfrm>
            <a:off x="3251160" y="2336760"/>
            <a:ext cx="311472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35040" y="1619280"/>
            <a:ext cx="88898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270080" y="1841400"/>
            <a:ext cx="76197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270080" y="1816200"/>
            <a:ext cx="7619760" cy="398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270080" y="1784520"/>
            <a:ext cx="761976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270080" y="1803240"/>
            <a:ext cx="76197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1760" y="2200320"/>
            <a:ext cx="8636040" cy="457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user\Desktop\tenge(2).jpg"/>
          <p:cNvPicPr/>
          <p:nvPr/>
        </p:nvPicPr>
        <p:blipFill>
          <a:blip r:embed="rId2"/>
          <a:stretch/>
        </p:blipFill>
        <p:spPr>
          <a:xfrm>
            <a:off x="722160" y="595440"/>
            <a:ext cx="823752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357120" y="-339840"/>
            <a:ext cx="10764720" cy="791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0040" y="2352240"/>
            <a:ext cx="68659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990000"/>
                </a:solidFill>
                <a:latin typeface="Georgia"/>
              </a:rPr>
              <a:t>ТЕНГЕ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1760" y="2200320"/>
            <a:ext cx="8636040" cy="457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user\Desktop\kupury.png"/>
          <p:cNvPicPr/>
          <p:nvPr/>
        </p:nvPicPr>
        <p:blipFill>
          <a:blip r:embed="rId2"/>
          <a:stretch/>
        </p:blipFill>
        <p:spPr>
          <a:xfrm>
            <a:off x="436680" y="523800"/>
            <a:ext cx="942948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721800" y="738000"/>
            <a:ext cx="863604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 u="sng">
                <a:solidFill>
                  <a:srgbClr val="000000"/>
                </a:solidFill>
                <a:uFillTx/>
                <a:latin typeface="Times New Roman"/>
              </a:rPr>
              <a:t>Викторина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. Когда была введена национальная валюта Казахстана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5 ноября 1993 год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2. Какая валюта является международной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Доллар, евро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61760" y="880560"/>
            <a:ext cx="86360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3. Как называлась денежная валюта Казахстана до тенге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Рубл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21800" y="1023840"/>
            <a:ext cx="86360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4. Как называлась наука о монетах и других денежных знаках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Нумизматик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-358920" y="-85680"/>
            <a:ext cx="10628280" cy="7837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280" y="812880"/>
            <a:ext cx="8705880" cy="60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Рождение валюты Казахстана –  тенге произошло  12 ноября 1993 год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5. Достоинством каких купюр в настоящий момент на территории Казахстана имеют  денежные знаки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200, 500, 1000, 2000, 5000, 10 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6. Что изображено на лицевой стороне наших банкнот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центральной части расположен «Астана- Байтерек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ередине банкноты на цветных полосах изображены фрагменты нот Государственного гимна, на который нанесено цифровое обозначение номина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 от монумента нанесен одним цветом Государственный герб РК. А в правой части- изображение Государственного флага. В нижней части банкноты изображена открытая ру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61760" y="880560"/>
            <a:ext cx="86360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7. Что изображено на обратной стороне нашей банкноты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братная сторона содержит изображения ландшафтов и современных объектов архитектуры, обрамленные контуром карты Казахста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1760" y="952560"/>
            <a:ext cx="863604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8. Какие разменные монеты денежного обращения имеет хождение на сегодняшний день на территории Казахстан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1, 2, 5, 10, 20, 50, 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61760" y="1023840"/>
            <a:ext cx="86360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9. Сколько степеней защиты имеет казахстанский тенге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нге - первый денежный знак суверенного Казахстана. Кстати, само слово “деньги” произошло от тюркского “тенге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СПАСИБ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ЗА ВНИМАНИЕ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1760" y="880560"/>
            <a:ext cx="86360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вторами тенг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тали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айрулли Габжалилов, Мендыбай Алин, Тимур Сулейменов и Арима-Сал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узельханова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2 ноябр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, в понедельник, до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5 ноября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шёл обмен тенг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61760" y="738000"/>
            <a:ext cx="863604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пример, американский доллар в то время имел 4 степени защиты, а наша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нге - 18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 И, кстати, у нашего тенге есть ещё своя особенность 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Этот приём в мире вообще был использован впервые, и благодаря ему тенге очень удобно считать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46160" y="-20520"/>
            <a:ext cx="1002816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e"/>
                </a:solidFill>
                <a:latin typeface="Tahoma"/>
              </a:rPr>
              <a:t>Первые банкноты Казахстана "Тенге"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203040" y="2336760"/>
            <a:ext cx="5112000" cy="511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978440" y="812880"/>
            <a:ext cx="50418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61760" y="1238400"/>
            <a:ext cx="863604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етный двор появился в Усть-Каменогорске на базе металлургического завода. Монетный двор производит не только монеты, но и государственные наград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Нумизмати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аука о монетах и других денежных знака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user</cp:lastModifiedBy>
  <dcterms:modified xsi:type="dcterms:W3CDTF">2016-11-27T14:09:39Z</dcterms:modified>
  <cp:revision>10</cp:revision>
  <dc:subject/>
  <dc:title>PowerPoint Presentation</dc:title>
</cp:coreProperties>
</file>