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B8C-74C5-4E04-AB2A-580ABF1C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B14-44F6-4CC4-AFF7-5168890D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B5B-94E9-42F4-8949-0CD3EC69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412-A23C-4BA9-9ACE-30B64E94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35E-DA1A-4497-B4FE-2F989BD5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F9C-0003-425F-AA13-4C00B43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8F4-84F5-4468-A46B-C0F6F33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91D-6BB4-411D-BCA1-BD3765B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852-D72F-485D-9E1D-E25BC95C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10B-E2A1-43E8-9C98-B85C9386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7BF-7C5B-4E54-8BBD-F284022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5E4-68A5-415D-BA6F-0BDEAAC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E9E-F70A-42FF-8F75-42541351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  </a:t>
            </a: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Валют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ллар и Ев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user\Desktop\ea5d0c71d7ee86af90417752087bfef9.jpg"/>
          <p:cNvPicPr/>
          <p:nvPr/>
        </p:nvPicPr>
        <p:blipFill>
          <a:blip r:embed="rId1"/>
          <a:stretch/>
        </p:blipFill>
        <p:spPr>
          <a:xfrm>
            <a:off x="865080" y="2238480"/>
            <a:ext cx="8143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Сейчас на руках у </a:t>
            </a:r>
            <a:r>
              <a:rPr b="0" lang="ru-RU" sz="3500" spc="-1" strike="noStrike">
                <a:solidFill>
                  <a:srgbClr val="000000"/>
                </a:solidFill>
                <a:latin typeface="Georgia"/>
              </a:rPr>
              <a:t>казахстанцев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имеются следующие бумажные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Georgia"/>
              </a:rPr>
              <a:t>банкн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Georgia"/>
              </a:rPr>
              <a:t>оты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ser\Desktop\tenge(2).jpg"/>
          <p:cNvPicPr/>
          <p:nvPr/>
        </p:nvPicPr>
        <p:blipFill>
          <a:blip r:embed="rId2"/>
          <a:stretch/>
        </p:blipFill>
        <p:spPr>
          <a:xfrm>
            <a:off x="722160" y="595440"/>
            <a:ext cx="82375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kupury.png"/>
          <p:cNvPicPr/>
          <p:nvPr/>
        </p:nvPicPr>
        <p:blipFill>
          <a:blip r:embed="rId2"/>
          <a:stretch/>
        </p:blipFill>
        <p:spPr>
          <a:xfrm>
            <a:off x="436680" y="523800"/>
            <a:ext cx="94294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2180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. Когда была введена национальная валюта Казахстан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5 ноября 1993 го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. Какая валюта является международной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Доллар, евро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. Как называлась денежная валюта Казахстана до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Рубл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2180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. Как называлась наука о монетах и других денежных знаках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. Достоинством каких купюр в настоящий момент на территории Казахстана имеют  денежные знак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200, 500, 1000, 2000, 5000, 10 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6. Что изображено на лицевой стороне наших банкно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нтральной части расположен «Астана- Байтере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ередине банкноты на цветных полосах изображены фрагменты нот Государственного гимна, на который нанесено цифровое обозначение номин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 от монумента нанесен одним цветом Государственный герб РК. А в правой части- изображение Государственного флага. В нижней части банкноты изображена открытая р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. Что изображено на обратной стороне нашей банкноты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братная сторона содержит изображения ландшафтов и современных объектов архитектуры, обрамленные контуром карты Казахст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1760" y="952560"/>
            <a:ext cx="86360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Какие разменные монеты денежного обращения имеет хождение на сегодняшний день на территории Казахстан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, 2, 5, 10, 20, 50, 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. Сколько степеней защиты имеет казахстанский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первый денежный знак суверенного Казахстана. Кстати, само слово “деньги” произошло от тюркского “тенге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ЗА ВНИМАНИЕ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торами тенг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тали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йрулли Габжалилов, Мендыбай Алин, Тимур Сулейменов и Арима-Сал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зельханов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но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 понедельник, до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5 ноябр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шёл обмен тенг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ример, американский доллар в то время имел 4 степени защиты, а наш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18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И, кстати, у нашего тенге есть ещё своя особенность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Этот приём в мире вообще был использован впервые, и благодаря ему тенге очень удобно счита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1760" y="1238400"/>
            <a:ext cx="863604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етный двор появился в Усть-Каменогорске на базе металлургического завода. Монетный двор производит не только монеты, но и государственные 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 о монетах и других денежных зна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er</cp:lastModifiedBy>
  <dcterms:modified xsi:type="dcterms:W3CDTF">2016-11-27T14:09:39Z</dcterms:modified>
  <cp:revision>10</cp:revision>
  <dc:subject/>
  <dc:title>PowerPoint Presentation</dc:title>
</cp:coreProperties>
</file>