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F5E-58F1-40B8-A29B-3157690D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682-904F-4417-8264-7AAEDA60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AED-DBDD-45B3-94A3-22924913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B75-B0FF-4EAF-B9BA-E26936C6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06A-7397-48D8-A345-E4EE307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22B-8196-4FEC-B92D-1B8F93C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713-7E92-426C-8EEA-471F53A7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928-51F3-4FC0-8862-97963243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6D6-6D27-4E9C-8C55-AB8F6DE4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32A-7900-411B-8A0E-54A8F62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B98-06C1-455A-B7B1-AFE74A2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BAA-1C57-44B4-AF4D-12A5F574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69C0-3C91-42FF-A08C-7F97F8274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  </a:t>
            </a: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Валют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ллар и Ев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user\Desktop\ea5d0c71d7ee86af90417752087bfef9.jpg"/>
          <p:cNvPicPr/>
          <p:nvPr/>
        </p:nvPicPr>
        <p:blipFill>
          <a:blip r:embed="rId1"/>
          <a:stretch/>
        </p:blipFill>
        <p:spPr>
          <a:xfrm>
            <a:off x="865080" y="2238480"/>
            <a:ext cx="8143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Сейчас на руках у </a:t>
            </a:r>
            <a:r>
              <a:rPr b="0" lang="ru-RU" sz="3500" spc="-1" strike="noStrike">
                <a:solidFill>
                  <a:srgbClr val="000000"/>
                </a:solidFill>
                <a:latin typeface="Georgia"/>
              </a:rPr>
              <a:t>казахстанцев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имеются следующие бумажные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Georgia"/>
              </a:rPr>
              <a:t>банкн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Georgia"/>
              </a:rPr>
              <a:t>оты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ser\Desktop\tenge(2).jpg"/>
          <p:cNvPicPr/>
          <p:nvPr/>
        </p:nvPicPr>
        <p:blipFill>
          <a:blip r:embed="rId2"/>
          <a:stretch/>
        </p:blipFill>
        <p:spPr>
          <a:xfrm>
            <a:off x="722160" y="595440"/>
            <a:ext cx="82375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kupury.png"/>
          <p:cNvPicPr/>
          <p:nvPr/>
        </p:nvPicPr>
        <p:blipFill>
          <a:blip r:embed="rId2"/>
          <a:stretch/>
        </p:blipFill>
        <p:spPr>
          <a:xfrm>
            <a:off x="436680" y="523800"/>
            <a:ext cx="94294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2180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. Когда была введена национальная валюта Казахстан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5 ноября 1993 го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. Какая валюта является международной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Доллар, евро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. Как называлась денежная валюта Казахстана до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Рубл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2180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. Как называлась наука о монетах и других денежных знаках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. Достоинством каких купюр в настоящий момент на территории Казахстана имеют  денежные знак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200, 500, 1000, 2000, 5000, 10 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6. Что изображено на лицевой стороне наших банкно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нтральной части расположен «Астана- Байтере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ередине банкноты на цветных полосах изображены фрагменты нот Государственного гимна, на который нанесено цифровое обозначение номин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 от монумента нанесен одним цветом Государственный герб РК. А в правой части- изображение Государственного флага. В нижней части банкноты изображена открытая р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. Что изображено на обратной стороне нашей банкноты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братная сторона содержит изображения ландшафтов и современных объектов архитектуры, обрамленные контуром карты Казахст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1760" y="952560"/>
            <a:ext cx="86360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Какие разменные монеты денежного обращения имеет хождение на сегодняшний день на территории Казахстан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, 2, 5, 10, 20, 50, 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. Сколько степеней защиты имеет казахстанский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первый денежный знак суверенного Казахстана. Кстати, само слово “деньги” произошло от тюркского “тенге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ЗА ВНИМАНИЕ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торами тенг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тали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йрулли Габжалилов, Мендыбай Алин, Тимур Сулейменов и Арима-Сал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зельханов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но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 понедельник, до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5 ноябр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шёл обмен тенг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ример, американский доллар в то время имел 4 степени защиты, а наш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18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И, кстати, у нашего тенге есть ещё своя особенность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Этот приём в мире вообще был использован впервые, и благодаря ему тенге очень удобно счита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1760" y="1238400"/>
            <a:ext cx="863604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етный двор появился в Усть-Каменогорске на базе металлургического завода. Монетный двор производит не только монеты, но и государственные 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 о монетах и других денежных зна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er</cp:lastModifiedBy>
  <dcterms:modified xsi:type="dcterms:W3CDTF">2016-11-27T14:09:39Z</dcterms:modified>
  <cp:revision>10</cp:revision>
  <dc:subject/>
  <dc:title>PowerPoint Presentation</dc:title>
</cp:coreProperties>
</file>