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4546-FA36-47DB-AE4A-A95382C05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D155-B858-4B9B-9069-88929B2B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AFA7-007D-4B48-8BD8-0286ED2BB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C8A8-96FA-493F-ADA6-961F195A5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0F94-2251-4F1F-96E2-FBF577900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208B-1922-475F-BD91-43A60414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427B-89CE-4C87-A185-7D59C6EB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66D4-38E7-4D69-A70A-22D55EA2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F7B6-7B54-4BFF-97D0-03BBF641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A948-6AF1-4850-989B-6DE43205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E407-40C1-40C4-BE88-25D2DDA0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92CF-8681-4EBC-865F-19F93E21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A2C3-356A-4BB8-A76F-8EE95A30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7844-48AF-4F42-9DE0-FEBDE5F6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9AB44-E477-44DC-B961-B106D026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070B-C3DB-4BBC-81E1-CE7C13F85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7D8D-8AC1-46AD-AF90-8DFEC9258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697DF-DD31-4792-9E3C-D0414FFB4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E1CB8-997D-4C95-A4DB-44EBA2D2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A6087-C8C2-4AA3-90FF-E91F230C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B84D8-DF38-4FCD-ACF4-CA7C2D90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B3D61-297C-40A0-83D7-92CD0614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01D4-7BF3-417A-A77C-83A46740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DF2E7-696E-45B1-B08B-F49E745B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73A7A-45D6-40E3-88CB-220E0726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DFC96-5D4A-4BA3-8083-8A26B4AC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FBAE9-7EB3-442E-8EDC-7A20AA48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1D0E2-65D0-4F12-93AA-15E28948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3C2A3-013B-4211-AB2B-B2908D7BF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65CF2-1492-432A-B142-13084DFDC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89F8A-7116-4547-8D45-228E1B256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E572F-EC4B-4849-BD0E-F2336BAF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F2109-7772-459E-82C9-E5F105EB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FB1A-EF8B-4558-853D-B3147D17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5F9BA-8C47-4358-B6BD-07366281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B7D49-6A6F-4420-9D21-35B67E9B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8F154-EFF8-4C70-8D34-1ECF1695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18A23-4209-4450-AB51-60102AB6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59B50-D98F-4ADA-81A6-3625A13E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7D07A-3C01-47B2-8077-6CA0A575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62885-3240-4F08-B7E7-69DBF5CC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B3AC6-B407-4A1F-97BD-9916328BD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31240-9606-4FE5-9CCC-85A60B203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F97BE-AA70-474C-A2E9-0072D70FF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1A06-0187-4B11-8714-43792198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2FC68-1B2B-434F-8E38-B70B9827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E96F2-BE4F-46B1-864A-60743499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B28D6-8307-427B-8C80-FDBB3B2C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5BEAB-EEF3-4DD9-A79C-83CE80FA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0CF08-A3F3-41DF-9EEA-C5DE72F8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2D292-B7EC-4811-BF4A-C4C08346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8AB5F-5144-47AD-8F5F-86D0C85E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64D3E-D24B-4D29-9467-85D41A5B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0C927-2144-4B66-A658-6A0DE11D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AE2C4-A515-4627-BAB9-5C4695BCE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0096-5AAF-40C6-8BD1-7489AD67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F4974-7D21-4620-AE5A-E7468F6D3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8858E-DCB5-4283-98E8-5617CC2B9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9167C-2D15-445A-A97F-18340E84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715A1-C9EC-48B1-A844-45094898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EA8F8-637F-40CA-9082-4CBBE960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A7B53-F04F-4B28-BF9C-6EA37B1C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D792F-317D-47D5-A34E-89049E61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7E590-00F9-4E9C-86F1-50138BF5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9D493-E2BF-401C-B4C5-F09E3EE8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8D205-357D-4AE6-814F-8ACBEA5C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88D4-1161-4CBC-9A8C-3347CE38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017A1-A9F1-4BE8-8D2D-F8481781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7D4C1-F788-4701-BD89-782AC48B2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1B0A3-845C-4292-9858-5F18ECB71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5F997-E9DB-4C4D-A222-BC68C7CB1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615DB-4C8A-4094-9B13-00D0F844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7AA78-63CA-473D-A918-CC3F782D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3886C-508D-4625-A55B-E41D3986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9F5CA-323D-44FF-B6BE-DBC1DE46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B91E7-CBAF-44F2-96F9-4C7A75A8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BE6D3-92C6-44EC-B0D2-855DD114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A451-B7E7-4780-B079-3409F2EC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344BF-7E94-4955-B6BA-3CF8C503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9E9F2-1F7D-4372-842C-8DE88BF7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C5208-667F-4B4D-B381-97978132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1614F-7C69-4D42-9B60-6C01849CF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EC3C2-68FF-42AA-B155-04F4E32BB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F6F2B-DAB1-47FA-AE38-60EB21924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FC0E6-E8BF-462D-A573-5E3C3142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DFE65-0659-4EFA-BC1A-B7787A83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6AD31-DA87-483B-9EA6-B1EB2652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8A03B-A824-4CBB-9319-BB499DD3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D244-5CEE-4B92-A5C0-04C6D659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15ED7-CCB0-4573-A94D-D69B17C0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CA277-F015-449C-99C1-73B3952E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A8BA8-38CF-4A12-8769-84A76C19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BEAB1-CA99-40AE-A2EC-293AC123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A6088-452B-4513-8267-D6B31F1C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09D1E-1BCB-49FE-B046-1917CC672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EC9AC-6A52-4FA7-BCCB-2D94973D2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733A-BCC5-4D17-8DCA-C624A4A4C9C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EA45-4B2B-4B99-AA70-05F07AB1236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4E4C-94BD-4644-8654-2F0CF48EEB3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6471-F4F1-442E-9F71-2303491EBC9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17D1-4172-4EFD-BCE0-7A66193C9FE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A1E1-5351-4C53-84AE-EC374054B82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2C1C-7A20-4DCF-BC01-753A49F7A79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9E47-B336-4379-A43B-D4D4401634C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493560" y="1384200"/>
            <a:ext cx="8382240" cy="22129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Мобу « Новочеркасская СОШ»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Булдакова Л.П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15+2=17км/ч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15-2=13км/ч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)3 · 17 = 51км – расстояние по течению за три часа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) 3· 13 = 39 км/ч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5) 68 : 17 = 4 часа по тече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) 78 : 13 =6 к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7) 17-13 = 4км/час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5" descr="C:\Users\Любовь_2\Desktop\АВГУСТ - СЕНТЯБРЬ\КАРТИНКИ ПРЕЗ\img13.jpg"/>
          <p:cNvPicPr/>
          <p:nvPr/>
        </p:nvPicPr>
        <p:blipFill>
          <a:blip r:embed="rId2"/>
          <a:stretch/>
        </p:blipFill>
        <p:spPr>
          <a:xfrm>
            <a:off x="6143760" y="3857760"/>
            <a:ext cx="22860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арианты у вас на столе – приступайте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C:\Users\Любовь_2\Desktop\АВГУСТ - СЕНТЯБРЬ\КАРТИНКИ ПРЕЗ\sova.jpg"/>
          <p:cNvPicPr/>
          <p:nvPr/>
        </p:nvPicPr>
        <p:blipFill>
          <a:blip r:embed="rId2"/>
          <a:stretch/>
        </p:blipFill>
        <p:spPr>
          <a:xfrm>
            <a:off x="3571920" y="2428920"/>
            <a:ext cx="433368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№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79, 8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C:\Users\Любовь_2\Desktop\АВГУСТ - СЕНТЯБРЬ\КАРТИНКИ ПРЕЗ\304610_html_337cb6c1.jpg"/>
          <p:cNvPicPr/>
          <p:nvPr/>
        </p:nvPicPr>
        <p:blipFill>
          <a:blip r:embed="rId2"/>
          <a:stretch/>
        </p:blipFill>
        <p:spPr>
          <a:xfrm>
            <a:off x="5072040" y="1714680"/>
            <a:ext cx="278136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Заголовок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27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75" name="Picture 2" descr="C:\Users\Любовь_2\Desktop\АВГУСТ - СЕНТЯБРЬ\КАРТИНКИ ПРЕЗ\18873_html_509959cc.jpg"/>
          <p:cNvPicPr/>
          <p:nvPr/>
        </p:nvPicPr>
        <p:blipFill>
          <a:blip r:embed="rId2"/>
          <a:stretch/>
        </p:blipFill>
        <p:spPr>
          <a:xfrm>
            <a:off x="500040" y="1143000"/>
            <a:ext cx="8183520" cy="428616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571680" y="1213920"/>
            <a:ext cx="40003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№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7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Б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Заголовок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669520" cy="1158840"/>
          </a:xfrm>
          <a:prstGeom prst="rect">
            <a:avLst/>
          </a:prstGeom>
          <a:ln w="0">
            <a:noFill/>
          </a:ln>
        </p:spPr>
      </p:pic>
      <p:sp>
        <p:nvSpPr>
          <p:cNvPr id="379" name="Прямая соединительная линия 4"/>
          <p:cNvSpPr/>
          <p:nvPr/>
        </p:nvSpPr>
        <p:spPr>
          <a:xfrm>
            <a:off x="1714680" y="2571840"/>
            <a:ext cx="5500440" cy="14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81" name="Прямая соединительная линия 7"/>
          <p:cNvSpPr/>
          <p:nvPr/>
        </p:nvSpPr>
        <p:spPr>
          <a:xfrm>
            <a:off x="3500280" y="1643040"/>
            <a:ext cx="4429440" cy="22147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TextBox 8"/>
          <p:cNvSpPr/>
          <p:nvPr/>
        </p:nvSpPr>
        <p:spPr>
          <a:xfrm>
            <a:off x="3429000" y="142884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Овал 9"/>
          <p:cNvSpPr/>
          <p:nvPr/>
        </p:nvSpPr>
        <p:spPr>
          <a:xfrm>
            <a:off x="3429000" y="1643040"/>
            <a:ext cx="71280" cy="4608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TextBox 10"/>
          <p:cNvSpPr/>
          <p:nvPr/>
        </p:nvSpPr>
        <p:spPr>
          <a:xfrm>
            <a:off x="7643880" y="3429000"/>
            <a:ext cx="5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TextBox 11"/>
          <p:cNvSpPr/>
          <p:nvPr/>
        </p:nvSpPr>
        <p:spPr>
          <a:xfrm>
            <a:off x="6779880" y="25002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Прямая соединительная линия 13"/>
          <p:cNvSpPr/>
          <p:nvPr/>
        </p:nvSpPr>
        <p:spPr>
          <a:xfrm>
            <a:off x="2000160" y="3357720"/>
            <a:ext cx="3357720" cy="23572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Прямая соединительная линия 15"/>
          <p:cNvSpPr/>
          <p:nvPr/>
        </p:nvSpPr>
        <p:spPr>
          <a:xfrm flipV="1">
            <a:off x="1143000" y="4500360"/>
            <a:ext cx="5357880" cy="1143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Овал 16"/>
          <p:cNvSpPr/>
          <p:nvPr/>
        </p:nvSpPr>
        <p:spPr>
          <a:xfrm flipH="1">
            <a:off x="1999440" y="3357720"/>
            <a:ext cx="71640" cy="7128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TextBox 17"/>
          <p:cNvSpPr/>
          <p:nvPr/>
        </p:nvSpPr>
        <p:spPr>
          <a:xfrm>
            <a:off x="2071800" y="2928960"/>
            <a:ext cx="4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TextBox 18"/>
          <p:cNvSpPr/>
          <p:nvPr/>
        </p:nvSpPr>
        <p:spPr>
          <a:xfrm>
            <a:off x="4919040" y="51436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Овал 19"/>
          <p:cNvSpPr/>
          <p:nvPr/>
        </p:nvSpPr>
        <p:spPr>
          <a:xfrm>
            <a:off x="1214280" y="5643720"/>
            <a:ext cx="46080" cy="7128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TextBox 20"/>
          <p:cNvSpPr/>
          <p:nvPr/>
        </p:nvSpPr>
        <p:spPr>
          <a:xfrm>
            <a:off x="1143000" y="571500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TextBox 21"/>
          <p:cNvSpPr/>
          <p:nvPr/>
        </p:nvSpPr>
        <p:spPr>
          <a:xfrm>
            <a:off x="6204600" y="442908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TextBox 22"/>
          <p:cNvSpPr/>
          <p:nvPr/>
        </p:nvSpPr>
        <p:spPr>
          <a:xfrm>
            <a:off x="4214880" y="4714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корость волка -  у м/мин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корость  зайца – х м/ мин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&gt; 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б) 10: ( У-Х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7" name="Прямая соединительная линия 4"/>
          <p:cNvSpPr/>
          <p:nvPr/>
        </p:nvSpPr>
        <p:spPr>
          <a:xfrm flipV="1">
            <a:off x="857160" y="3571560"/>
            <a:ext cx="7215120" cy="1429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Овал 5"/>
          <p:cNvSpPr/>
          <p:nvPr/>
        </p:nvSpPr>
        <p:spPr>
          <a:xfrm flipH="1" flipV="1">
            <a:off x="811080" y="3642480"/>
            <a:ext cx="46080" cy="716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399" name="Прямая со стрелкой 7"/>
          <p:cNvCxnSpPr/>
          <p:nvPr/>
        </p:nvCxnSpPr>
        <p:spPr>
          <a:xfrm>
            <a:off x="1000080" y="4285800"/>
            <a:ext cx="1357920" cy="25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00" name="TextBox 8"/>
          <p:cNvSpPr/>
          <p:nvPr/>
        </p:nvSpPr>
        <p:spPr>
          <a:xfrm>
            <a:off x="1357200" y="400068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У м/мин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Овал 9"/>
          <p:cNvSpPr/>
          <p:nvPr/>
        </p:nvSpPr>
        <p:spPr>
          <a:xfrm>
            <a:off x="3929040" y="3643200"/>
            <a:ext cx="46080" cy="14292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402" name="Прямая со стрелкой 11"/>
          <p:cNvCxnSpPr/>
          <p:nvPr/>
        </p:nvCxnSpPr>
        <p:spPr>
          <a:xfrm flipV="1">
            <a:off x="4285800" y="3285360"/>
            <a:ext cx="1429560" cy="723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03" name="TextBox 13"/>
          <p:cNvSpPr/>
          <p:nvPr/>
        </p:nvSpPr>
        <p:spPr>
          <a:xfrm>
            <a:off x="4457160" y="307188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Х м/мин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Дуга 14"/>
          <p:cNvSpPr/>
          <p:nvPr/>
        </p:nvSpPr>
        <p:spPr>
          <a:xfrm>
            <a:off x="857160" y="3643200"/>
            <a:ext cx="46080" cy="71640"/>
          </a:xfrm>
          <a:prstGeom prst="pie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Дуга 15"/>
          <p:cNvSpPr/>
          <p:nvPr/>
        </p:nvSpPr>
        <p:spPr>
          <a:xfrm>
            <a:off x="857160" y="3714840"/>
            <a:ext cx="71640" cy="46080"/>
          </a:xfrm>
          <a:prstGeom prst="pie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Круговая стрелка 16"/>
          <p:cNvSpPr/>
          <p:nvPr/>
        </p:nvSpPr>
        <p:spPr>
          <a:xfrm>
            <a:off x="857160" y="3357720"/>
            <a:ext cx="3214800" cy="357120"/>
          </a:xfrm>
          <a:prstGeom prst="pi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TextBox 17"/>
          <p:cNvSpPr/>
          <p:nvPr/>
        </p:nvSpPr>
        <p:spPr>
          <a:xfrm>
            <a:off x="2286000" y="3000240"/>
            <a:ext cx="5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0м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TextBox 18"/>
          <p:cNvSpPr/>
          <p:nvPr/>
        </p:nvSpPr>
        <p:spPr>
          <a:xfrm>
            <a:off x="2428920" y="3857760"/>
            <a:ext cx="60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А)( у – х )м/мин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"/>
          <p:cNvGraphicFramePr/>
          <p:nvPr/>
        </p:nvGraphicFramePr>
        <p:xfrm>
          <a:off x="357120" y="1428840"/>
          <a:ext cx="8229600" cy="46908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115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3c4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3c4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3c4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3c4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3c4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3c4a"/>
                    </a:solidFill>
                  </a:tcPr>
                </a:tc>
              </a:tr>
              <a:tr h="115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2а+3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2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1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8e9"/>
                    </a:solidFill>
                  </a:tcPr>
                </a:tc>
              </a:tr>
              <a:tr h="11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4а-2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2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3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</a:tr>
            </a:tbl>
          </a:graphicData>
        </a:graphic>
      </p:graphicFrame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10:10      1200:100      150:10    245000:10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700  ·100     82 · 1000  750 · 1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одной стопке  35 тетр, а в другой в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 раза &gt;, на 15 &gt;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нига стоит 120 руб, альбом в 2 раза дешевл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колько стоит альбом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.Построить прямую АВ; на отрезке АВ отметить  точку С, через С провести прямую с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. Прямую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K L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и отрезок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N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, пересекающиеся в точке  О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. Построить пересекающиеся прямые АВ и СД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. построить лучи  АК, АМ, АД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корость течения реки -2км/ч, собственная скорость  катера 15 км/час. Составьте выражения и найти их значения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скорость катера  при движении по воде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против движения воды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) расстояние которое пройдет катер за три часа по течению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)расстояние за три часа против течения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) время  на прохождение 68км по течению реки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5) время на прохождение 78 км при движении против течения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) на сколько скорость катера по течению больше скорости против течени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2T17:09:18Z</dcterms:created>
  <dc:creator>Любовь</dc:creator>
  <dc:description/>
  <dc:language>en-US</dc:language>
  <cp:lastModifiedBy>Любовь</cp:lastModifiedBy>
  <dcterms:modified xsi:type="dcterms:W3CDTF">2015-09-22T18:40:22Z</dcterms:modified>
  <cp:revision>2</cp:revision>
  <dc:subject/>
  <dc:title>Урок математики в 5классе по теме « Прямая, отрезок и луч»</dc:title>
</cp:coreProperties>
</file>