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3D5-9844-4073-98E6-69962B00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9EC-709E-47BF-8940-CC3B798A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D41-1053-4037-BB71-E43BDE45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CF0-8632-499E-B7D3-BD29DDA1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16E6-824E-4490-B60B-6333CB53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3D15-7048-4502-BFE7-72DAC479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B7F5-73F9-46FD-8F0D-0F789E01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F93C-226B-4957-BF7F-30D76622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3B36-3644-49E8-9B5C-4842DFA4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A894-18F1-49AD-863F-8F73506F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150D-20FA-4F4C-9CDC-886537C4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787-5A30-4E26-AC56-DB9439BA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3FA8-71E9-41BE-B02E-4792B778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A124-B807-492A-8DB1-93C360F5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8C1B-6699-47B4-843A-943E38B3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91EB-2979-44B3-97FC-2E1CBF55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C0B5-A5FD-43DA-800B-273CC3A2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D4540-F54D-43DD-88FE-5A825A95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419B5-CAED-4F2E-A0BB-F8BC98C6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BE326-128E-4CF3-AC6F-F94E5294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FAB65-2A91-43FE-8E86-194104A0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ACF8F-F8E5-4173-B9FC-3C131F75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4C0-8BF4-4308-9DAE-12E41E3C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316EF-DFED-404F-A31D-292D79DB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0CD6A-8294-44FB-AD9B-A82349D6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BF8C0-425F-4878-A609-573A7B49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6DFBC-F80B-4669-B6C8-4E513D5C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6694-1C1A-47BF-8FAF-5D41EC65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06BA1-ADB1-4FE4-941F-D2F38798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033BE-09C0-406B-99D9-7F40BCDD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0D4B1-78AF-4ECF-990C-BC47681C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AD0D6-64A9-4ACC-9DAE-99848430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19D2B-DB4B-4068-A340-D3821E4F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3F9-3829-4374-BA16-C928F5FC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19D04-F8F6-4828-858A-8FC212F1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2D196-724B-4BB4-872D-9046F133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249AD-8B69-40FD-A675-BA5E7834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2089B-D552-4C07-AE5A-DB7C5FBC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B3EA8-42D2-44BF-A2A5-47AD1672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CAD94-D834-4D99-9FF8-6DA95594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8346F-03AC-419B-AD38-C5E179BB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9D03A-AAD3-4524-A413-C2363029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18ADB-7015-4882-ACF3-65A188FB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ECBF7-9D9E-41FE-BC04-5DF8134C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E0A-3502-4989-9C93-58835CC0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38336-B6C5-4906-8D06-88F15DEA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18FF7-9390-42C7-BE48-EA553547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5BB03-39EE-4733-B2F3-EF9EC656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A6DEE-353D-4790-A8C0-36613E56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C22EF-BB38-400D-A9B5-A580AE2E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D7DA8-279B-4E12-90AD-F4C3CB60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9151C-82B9-41DD-9D1B-0F6A4DEA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3E29F-F14A-4E77-B072-32A4FD3F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E4805-22FF-4D74-A54A-EAB627CB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FF05B-CB2E-48B7-A4B4-ADF12CEB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134-AA3B-4237-80C7-F5F3EC25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0C5EF-7799-4570-A910-929E8EB2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DF880-2CB9-4673-ACB7-5F5EB3F1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391DA-9E1F-4115-8605-96D8F233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1F789-9E10-41E1-9E57-BD305985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64B55-C419-461E-8C64-DCBB9FB6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505B7-FBFE-4537-B8A7-7975097B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C751F-3274-43E4-9E7F-0563818E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05C6D-A772-4A2E-91DB-2392DE8C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93BF6-AE0D-44A3-AC92-D2F1FA4E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F1B78-2564-42CC-B8C5-C9C1B21D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DE9-00B1-4CF6-8BF9-6D57B08C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07875-55E8-40C8-84B8-7FAE8495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AA4CB-9951-4618-AD63-183E6345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EB356-740C-49C5-8791-B3404851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83BE8-9538-41DE-808D-6EF137E9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56CA1-5B43-4962-AB49-77E79130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39F5C-BC33-4C52-964E-000D3E44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44933-2632-4135-BC75-43C3FF03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91088-E726-4817-9E44-0E4CE55A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4FD54-F5F1-44B4-85EE-07E3B9CA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9CE3E-E95E-45C1-914A-B231AFF5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3CE-91FE-4478-918F-5530122E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475DD-881D-41A8-A281-3953D19A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6A748-AD6E-4A26-9087-DD73660C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D0751-7446-47AC-A321-09D4674C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36D96-246E-4463-90F8-39F6480A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7985A-320C-44DA-9D61-EAC69599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AB25E-912D-4417-80E7-41396F23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E3FF6-746D-4984-BE0E-D6C18A54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29231-9E45-44F8-96DA-6206566C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F98F2-E3CA-4974-BB5C-C9C284D4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E9564-77C8-4767-B356-2B537F95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73D-A066-40EE-B435-E289AFE6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2C8A2-2F2B-4E4C-B058-35FBAB4F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9B6CF-4228-4588-B984-D9E3BA3E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0FC64-359A-4C45-8C7E-1DCBCAE5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6BA47-5EC8-4664-8B19-9C2CC6A4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901B4-A289-4290-A91A-70D4DD4D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63644-B540-4D7C-9397-289CE5A9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2498E-6CF4-4D03-B1F1-0B0EEC10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C196-067A-4D72-8E2D-3E2BAB9D06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53AD-E353-4E21-9F2A-BB09A8BD57D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C125-09B5-481E-BC8B-C6B00AFB27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A968-D07B-4F4A-9360-E2F0DE57039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6E31-8C32-4A57-8371-424339CFFF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2B7A-52E4-4010-AB9F-3DF531201F6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364D-1B9E-47A3-8604-9C05AF908B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BDD0-3E5B-455B-ADD2-FACDF333F35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93560" y="1384200"/>
            <a:ext cx="83822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Мобу « Новочеркасская СОШ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Булдакова Л.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15+2=17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15-2=13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3 · 17 = 51км – расстояние по течению за три час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3· 13 = 39 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68 : 17 = 4 часа по теч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78 : 13 =6 к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) 17-13 = 4км/ча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5" descr="C:\Users\Любовь_2\Desktop\АВГУСТ - СЕНТЯБРЬ\КАРТИНКИ ПРЕЗ\img13.jpg"/>
          <p:cNvPicPr/>
          <p:nvPr/>
        </p:nvPicPr>
        <p:blipFill>
          <a:blip r:embed="rId2"/>
          <a:stretch/>
        </p:blipFill>
        <p:spPr>
          <a:xfrm>
            <a:off x="6143760" y="3857760"/>
            <a:ext cx="2286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арианты у вас на столе – приступайте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Любовь_2\Desktop\АВГУСТ - СЕНТЯБРЬ\КАРТИНКИ ПРЕЗ\sova.jpg"/>
          <p:cNvPicPr/>
          <p:nvPr/>
        </p:nvPicPr>
        <p:blipFill>
          <a:blip r:embed="rId2"/>
          <a:stretch/>
        </p:blipFill>
        <p:spPr>
          <a:xfrm>
            <a:off x="3571920" y="2428920"/>
            <a:ext cx="43336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9, 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Любовь_2\Desktop\АВГУСТ - СЕНТЯБРЬ\КАРТИНКИ ПРЕЗ\304610_html_337cb6c1.jpg"/>
          <p:cNvPicPr/>
          <p:nvPr/>
        </p:nvPicPr>
        <p:blipFill>
          <a:blip r:embed="rId2"/>
          <a:stretch/>
        </p:blipFill>
        <p:spPr>
          <a:xfrm>
            <a:off x="5072040" y="1714680"/>
            <a:ext cx="27813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27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5" name="Picture 2" descr="C:\Users\Любовь_2\Desktop\АВГУСТ - СЕНТЯБРЬ\КАРТИНКИ ПРЕЗ\18873_html_509959cc.jpg"/>
          <p:cNvPicPr/>
          <p:nvPr/>
        </p:nvPicPr>
        <p:blipFill>
          <a:blip r:embed="rId2"/>
          <a:stretch/>
        </p:blipFill>
        <p:spPr>
          <a:xfrm>
            <a:off x="500040" y="1143000"/>
            <a:ext cx="8183520" cy="4286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571680" y="1213920"/>
            <a:ext cx="4000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6952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ая соединительная линия 4"/>
          <p:cNvSpPr/>
          <p:nvPr/>
        </p:nvSpPr>
        <p:spPr>
          <a:xfrm>
            <a:off x="1714680" y="2571840"/>
            <a:ext cx="550044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Прямая соединительная линия 7"/>
          <p:cNvSpPr/>
          <p:nvPr/>
        </p:nvSpPr>
        <p:spPr>
          <a:xfrm>
            <a:off x="3500280" y="1643040"/>
            <a:ext cx="4429440" cy="22147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3429000" y="14288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Овал 9"/>
          <p:cNvSpPr/>
          <p:nvPr/>
        </p:nvSpPr>
        <p:spPr>
          <a:xfrm>
            <a:off x="3429000" y="1643040"/>
            <a:ext cx="71280" cy="460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7643880" y="3429000"/>
            <a:ext cx="5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6779880" y="25002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Прямая соединительная линия 13"/>
          <p:cNvSpPr/>
          <p:nvPr/>
        </p:nvSpPr>
        <p:spPr>
          <a:xfrm>
            <a:off x="2000160" y="3357720"/>
            <a:ext cx="3357720" cy="2357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Прямая соединительная линия 15"/>
          <p:cNvSpPr/>
          <p:nvPr/>
        </p:nvSpPr>
        <p:spPr>
          <a:xfrm flipV="1">
            <a:off x="1143000" y="4500360"/>
            <a:ext cx="5357880" cy="1143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Овал 16"/>
          <p:cNvSpPr/>
          <p:nvPr/>
        </p:nvSpPr>
        <p:spPr>
          <a:xfrm flipH="1">
            <a:off x="1999440" y="3357720"/>
            <a:ext cx="7164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17"/>
          <p:cNvSpPr/>
          <p:nvPr/>
        </p:nvSpPr>
        <p:spPr>
          <a:xfrm>
            <a:off x="2071800" y="292896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TextBox 18"/>
          <p:cNvSpPr/>
          <p:nvPr/>
        </p:nvSpPr>
        <p:spPr>
          <a:xfrm>
            <a:off x="4919040" y="51436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Овал 19"/>
          <p:cNvSpPr/>
          <p:nvPr/>
        </p:nvSpPr>
        <p:spPr>
          <a:xfrm>
            <a:off x="1214280" y="5643720"/>
            <a:ext cx="4608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TextBox 20"/>
          <p:cNvSpPr/>
          <p:nvPr/>
        </p:nvSpPr>
        <p:spPr>
          <a:xfrm>
            <a:off x="1143000" y="57150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Box 21"/>
          <p:cNvSpPr/>
          <p:nvPr/>
        </p:nvSpPr>
        <p:spPr>
          <a:xfrm>
            <a:off x="6204600" y="44290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Box 22"/>
          <p:cNvSpPr/>
          <p:nvPr/>
        </p:nvSpPr>
        <p:spPr>
          <a:xfrm>
            <a:off x="4214880" y="4714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волка -  у м/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 зайца – х м/ 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&gt; 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10: ( У-Х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ая соединительная линия 4"/>
          <p:cNvSpPr/>
          <p:nvPr/>
        </p:nvSpPr>
        <p:spPr>
          <a:xfrm flipV="1">
            <a:off x="857160" y="3571560"/>
            <a:ext cx="721512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Овал 5"/>
          <p:cNvSpPr/>
          <p:nvPr/>
        </p:nvSpPr>
        <p:spPr>
          <a:xfrm flipH="1" flipV="1">
            <a:off x="811080" y="3642480"/>
            <a:ext cx="46080" cy="71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99" name="Прямая со стрелкой 7"/>
          <p:cNvCxnSpPr/>
          <p:nvPr/>
        </p:nvCxnSpPr>
        <p:spPr>
          <a:xfrm>
            <a:off x="1000080" y="4285800"/>
            <a:ext cx="135792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0" name="TextBox 8"/>
          <p:cNvSpPr/>
          <p:nvPr/>
        </p:nvSpPr>
        <p:spPr>
          <a:xfrm>
            <a:off x="1357200" y="40006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Овал 9"/>
          <p:cNvSpPr/>
          <p:nvPr/>
        </p:nvSpPr>
        <p:spPr>
          <a:xfrm>
            <a:off x="3929040" y="3643200"/>
            <a:ext cx="46080" cy="142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02" name="Прямая со стрелкой 11"/>
          <p:cNvCxnSpPr/>
          <p:nvPr/>
        </p:nvCxnSpPr>
        <p:spPr>
          <a:xfrm flipV="1">
            <a:off x="4285800" y="3285360"/>
            <a:ext cx="1429560" cy="7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3" name="TextBox 13"/>
          <p:cNvSpPr/>
          <p:nvPr/>
        </p:nvSpPr>
        <p:spPr>
          <a:xfrm>
            <a:off x="4457160" y="3071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Дуга 14"/>
          <p:cNvSpPr/>
          <p:nvPr/>
        </p:nvSpPr>
        <p:spPr>
          <a:xfrm>
            <a:off x="857160" y="3643200"/>
            <a:ext cx="46080" cy="7164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Дуга 15"/>
          <p:cNvSpPr/>
          <p:nvPr/>
        </p:nvSpPr>
        <p:spPr>
          <a:xfrm>
            <a:off x="857160" y="3714840"/>
            <a:ext cx="71640" cy="46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Круговая стрелка 16"/>
          <p:cNvSpPr/>
          <p:nvPr/>
        </p:nvSpPr>
        <p:spPr>
          <a:xfrm>
            <a:off x="857160" y="3357720"/>
            <a:ext cx="3214800" cy="35712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Box 17"/>
          <p:cNvSpPr/>
          <p:nvPr/>
        </p:nvSpPr>
        <p:spPr>
          <a:xfrm>
            <a:off x="2286000" y="30002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0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2428920" y="38577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А)( у – х )м/ми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357120" y="1428840"/>
          <a:ext cx="8229600" cy="4690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а+3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а-2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</a:tbl>
          </a:graphicData>
        </a:graphic>
      </p:graphicFrame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10:10      1200:100      150:10    245000:1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00  ·100     82 · 1000  750 ·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одной стопке  35 тетр, а в другой 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 раза &gt;, на 15 &gt;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нига стоит 120 руб, альбом в 2 раза дешевл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лько стоит альбом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Построить прямую АВ; на отрезке АВ отметить  точку С, через С провести прямую с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Прямую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 L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и отрезок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N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пересекающиеся в точке  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Построить пересекающиеся прямые АВ и СД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 построить лучи  АК, АМ, А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течения реки -2км/ч, собственная скорость  катера 15 км/час. Составьте выражения и найти их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скорость катера  при движении по вод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против движения вод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 расстояние которое пройдет катер за три часа по течению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расстояние за три часа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время  на прохождение 68км по течению ре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время на прохождение 78 км при движении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на сколько скорость катера по течению больше скорости против теч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7:09:18Z</dcterms:created>
  <dc:creator>Любовь</dc:creator>
  <dc:description/>
  <dc:language>en-US</dc:language>
  <cp:lastModifiedBy>Любовь</cp:lastModifiedBy>
  <dcterms:modified xsi:type="dcterms:W3CDTF">2015-09-22T18:40:22Z</dcterms:modified>
  <cp:revision>2</cp:revision>
  <dc:subject/>
  <dc:title>Урок математики в 5классе по теме « Прямая, отрезок и луч»</dc:title>
</cp:coreProperties>
</file>