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gif" ContentType="image/gif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DAD-5EF7-4FA6-B6FA-E0E5BFF5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194-5D12-4B77-8176-97AAFF7A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552-4B2C-43B4-8C70-D586FE68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C9F-9584-459F-9301-AFD7D58D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D416-5104-4934-AD29-64F5E219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2EF4-6CC2-43A5-B955-5DD80F20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C6FE-AA2A-4EC6-BB71-69A834E2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1F2E-EA60-4A07-9813-C5153CFF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FEE2-1F09-4D4A-BBC6-774CA223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B561-37AE-47AA-9FA0-D2B711C2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B587-F62A-4ABB-A4F4-7D40020B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CD0-C41B-4501-A24C-D9B5B1F0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3FEB-46F4-4FE2-8C90-CD3E621B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520A-1D54-480A-A652-36317B52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B954-1F12-4568-B01C-8CA2799E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A173-BDE1-4F69-9F01-F367ADB4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B128-1AD4-48BA-BE5A-9E7243BE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CFD-7C15-4076-AB14-FB9A2C48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BE8-93E7-4F46-AFDC-0AEA44E9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3ED-8923-4C6D-9A2A-A70BF289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898-B240-4665-9FF4-2056176F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447-4B5A-4179-B5CC-EF967202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5C7-36BE-4805-A32C-71313F7C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937-C0E6-41E4-ADAE-15B54B9B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63F9-1CDA-45CD-B6F7-F959E0E93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463F-3C64-4194-9374-CD97961698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85880" y="85716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Общая характеристика грибов как представителей особого царства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тание, дыхание, споровое размножение гри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3357720"/>
            <a:ext cx="300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ибы – очень интересные организмы. Они не растения и не живо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этому учёные их выделили в самостоятельную групп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6" descr="13.jpg"/>
          <p:cNvPicPr/>
          <p:nvPr/>
        </p:nvPicPr>
        <p:blipFill>
          <a:blip r:embed="rId1"/>
          <a:stretch/>
        </p:blipFill>
        <p:spPr>
          <a:xfrm>
            <a:off x="4357800" y="2857680"/>
            <a:ext cx="4535280" cy="38574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2"/>
          <p:cNvSpPr/>
          <p:nvPr/>
        </p:nvSpPr>
        <p:spPr>
          <a:xfrm>
            <a:off x="3857760" y="142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видов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0080" y="571680"/>
            <a:ext cx="6769080" cy="7189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знаки царства гри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191628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700280"/>
          <a:ext cx="7848360" cy="37447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раст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живот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движ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ут верхней ча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рочные клеточные стен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 путем всасы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Нет хлорофил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Гетеротроф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Запасное питательное вещество – глик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Образует мочев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5"/>
          <p:cNvSpPr/>
          <p:nvPr/>
        </p:nvSpPr>
        <p:spPr>
          <a:xfrm>
            <a:off x="179280" y="33336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1071720" y="5857920"/>
            <a:ext cx="72738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рибы – это особое царство живы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Микориз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1908000" y="1268280"/>
            <a:ext cx="5904000" cy="426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684360" y="5511960"/>
            <a:ext cx="7848360" cy="13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рибница поглощает из почвы воду и растворённые минеральные вещ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оторые поступают в корни деревьев. Из корней грибница получ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рганические вещества, необходимые ей для питания и образования плодовых т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Физкультминут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ос гриб на тонкой нож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тань и ты, постой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ышу сделай над со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но шляпкой гриб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тихонечко вздохн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вь грибы учить начн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3" descr="p7.gif"/>
          <p:cNvPicPr/>
          <p:nvPr/>
        </p:nvPicPr>
        <p:blipFill>
          <a:blip r:embed="rId1"/>
          <a:stretch/>
        </p:blipFill>
        <p:spPr>
          <a:xfrm>
            <a:off x="6588000" y="3213000"/>
            <a:ext cx="220212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16E-006 C -0.01476 0.00231 -0.01927 0.00763 -0.03195 0.0111 C -0.04063 0.01341 -0.05122 0.01434 -0.06007 0.01573 C -0.06736 0.01411 -0.07465 0.01318 -0.0816 0.0111 C -0.08906 0.00902 -0.10347 0.00324 -0.10347 0.00347 C -0.10903 -0.00555 -0.11424 -0.00555 -0.12327 -0.00949 C -0.1283 -0.0118 -0.13802 -0.01712 -0.13802 -0.01689 C -0.14219 -0.02869 -0.14774 -0.02475 -0.15486 -0.03146 C -0.16233 -0.03863 -0.16476 -0.04164 -0.17483 -0.04557 C -0.18125 -0.05159 -0.18906 -0.05344 -0.19601 -0.05829 C -0.25208 -0.05691 -0.24844 -0.05529 -0.28768 -0.05182 C -0.30347 -0.04442 -0.31945 -0.03956 -0.33733 -0.03794 C -0.34497 -0.0273 -0.36893 -0.02545 -0.38056 -0.0236 C -0.40799 -0.0192 -0.43386 -0.01712 -0.46181 -0.01573 C -0.48906 -0.01781 -0.50538 -0.02059 -0.52969 -0.02684 C -0.53698 -0.02845 -0.54445 -0.03216 -0.55139 -0.0347 C -0.55747 -0.03678 -0.56979 -0.04071 -0.56979 -0.04048 C -0.57361 -0.05136 -0.56771 -0.03933 -0.58125 -0.04881 C -0.58247 -0.04974 -0.58177 -0.05228 -0.58299 -0.05344 C -0.58403 -0.05459 -0.58629 -0.05459 -0.5882 -0.05506 C -0.59167 -0.0657 -0.60938 -0.06431 -0.61962 -0.06917 C -0.62691 -0.07241 -0.64097 -0.07865 -0.64097 -0.07842 C -0.65886 -0.1041 -0.71042 -0.08698 -0.73073 -0.08652 C -0.73542 -0.08374 -0.7408 -0.08189 -0.74549 -0.07865 C -0.74774 -0.0768 -0.74965 -0.07379 -0.75208 -0.07217 C -0.75538 -0.07055 -0.75903 -0.07032 -0.76233 -0.06917 C -0.76528 -0.06824 -0.76754 -0.0657 -0.77031 -0.06431 C -0.78143 -0.05922 -0.79861 -0.05806 -0.81024 -0.05668 C -0.825 -0.05205 -0.83837 -0.04812 -0.8533 -0.04395 C -0.8684 -0.03331 -0.85035 -0.04442 -0.87014 -0.03794 C -0.87327 -0.03701 -0.875 -0.03377 -0.8783 -0.03308 C -0.88715 -0.031 -0.90521 -0.02984 -0.90521 -0.02961 C -0.91459 -0.031 -0.92465 -0.03054 -0.93455 -0.03308 C -0.93577 -0.03354 -0.93472 -0.03701 -0.93577 -0.03794 C -0.93889 -0.03933 -0.94271 -0.03886 -0.94601 -0.0391 C -0.95139 -0.04095 -0.96077 -0.04719 -0.96077 -0.04696 C -0.96406 -0.05668 -0.9599 -0.04835 -0.9724 -0.05506 C -0.99236 -0.0657 -0.98004 -0.06061 -0.99045 -0.06917 C -0.99566 -0.0731 -1.00191 -0.07518 -1.00729 -0.07865 C -1.0099 -0.08605 -1.00764 -0.08351 -1.01858 -0.08652 C -1.02136 -0.08721 -1.02726 -0.08814 -1.02726 -0.0879 E"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857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1143000"/>
          <a:ext cx="7786800" cy="146376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верных 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-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2071800" y="5000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и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760" y="344196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  Индивидуальное задание на выбо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 устное сообщение «Грибы-рекордсмены» (необычные грибы), «Грибы нашей местности», «Правила сбора грибов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Рисунки съедобных и ядовитых грибов с приложением - пояснением (краткое описа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казка собственного сочинения по теме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Содержимое 3" descr="0_5c7d2_a0d399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БЕРЕГИТЕ ПРИРОД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500120" y="3244680"/>
            <a:ext cx="5857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0:39:56Z</dcterms:created>
  <dc:creator>Настя</dc:creator>
  <dc:description/>
  <dc:language>en-US</dc:language>
  <cp:lastModifiedBy>Айгерим и Айнар</cp:lastModifiedBy>
  <dcterms:modified xsi:type="dcterms:W3CDTF">2015-04-27T19:58:35Z</dcterms:modified>
  <cp:revision>29</cp:revision>
  <dc:subject/>
  <dc:title>Слайд 1</dc:title>
</cp:coreProperties>
</file>