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gif" ContentType="image/gif"/>
  <Override PartName="/ppt/media/image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B14-D34D-49A2-A879-4D18743A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BF4-E7B3-4A0B-A1CF-16239DF8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4B88-9B18-404A-828C-05A67B2A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49B2-6EB3-463D-83F0-ADF4B30B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ECC4-64FC-4835-8D7F-9EC2E997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4C89-F48B-404E-A226-844C3AB6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5098-A28A-49B0-8413-F404FA65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D342-4786-4D32-8BCF-BE9A6037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FE89-0993-4745-B488-FD80D34D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28DA-B0F0-4121-9F50-B41789FE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4B85-F660-47AA-ADA4-4DE5A05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FA0-0B38-4C2A-A5E1-0A254E9F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2DE4-E038-4EC5-A260-4673CC52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5491-B955-42AF-8B8C-6ADC741F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4DBB-DBD6-42B5-850B-1DD372E1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28C9-12D8-4C11-BE67-FF0ECFC9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C537-714D-48D8-9891-2F4E4D79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AA9-A8C8-4545-BDFE-BAEE6702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B82C-7A6F-4E27-922A-5CF222F6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9A1-252A-4427-BA12-D818E6AD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F74B-B75F-49F8-BF40-25658863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87D-58A6-4EEE-8F42-7BA30F33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6EA-EB73-41F9-8E13-6BF374B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FD3-DBDA-4CF4-AF11-F93CEA73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4BC2-7E3E-47A8-A584-85681D58D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0CF4-C636-43D6-94D1-A633C85A2A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785880" y="85716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ма: Общая характеристика грибов как представителей особого царства живой прир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итание, дыхание, споровое размножение гриб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42960" y="3357720"/>
            <a:ext cx="3000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ибы – очень интересные организмы. Они не растения и не живот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этому учёные их выделили в самостоятельную групп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Содержимое 6" descr="13.jpg"/>
          <p:cNvPicPr/>
          <p:nvPr/>
        </p:nvPicPr>
        <p:blipFill>
          <a:blip r:embed="rId1"/>
          <a:stretch/>
        </p:blipFill>
        <p:spPr>
          <a:xfrm>
            <a:off x="4357800" y="2857680"/>
            <a:ext cx="4535280" cy="385740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Object 17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2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Box 2"/>
          <p:cNvSpPr/>
          <p:nvPr/>
        </p:nvSpPr>
        <p:spPr>
          <a:xfrm>
            <a:off x="3857760" y="14292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образие видов гри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000080" y="571680"/>
            <a:ext cx="6769080" cy="71892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ризнаки царства гриб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11280" y="191628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4360" y="1700280"/>
          <a:ext cx="7848360" cy="374472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расте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 животн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подвижн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стут верхней часть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рочные клеточные стен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99ff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 путем всасы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Нет хлорофил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Гетеротроф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Запасное питательное вещество – гликоге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Образует мочевин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5"/>
          <p:cNvSpPr/>
          <p:nvPr/>
        </p:nvSpPr>
        <p:spPr>
          <a:xfrm>
            <a:off x="179280" y="333360"/>
            <a:ext cx="7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1071720" y="5857920"/>
            <a:ext cx="72738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Грибы – это особое царство живых организм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38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Микориз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4" descr="сканирование0038"/>
          <p:cNvPicPr/>
          <p:nvPr/>
        </p:nvPicPr>
        <p:blipFill>
          <a:blip r:embed="rId1"/>
          <a:stretch/>
        </p:blipFill>
        <p:spPr>
          <a:xfrm>
            <a:off x="1908000" y="1268280"/>
            <a:ext cx="5904000" cy="426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3" name="Rectangle 5"/>
          <p:cNvSpPr/>
          <p:nvPr/>
        </p:nvSpPr>
        <p:spPr>
          <a:xfrm>
            <a:off x="684360" y="5511960"/>
            <a:ext cx="7848360" cy="13460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Грибница поглощает из почвы воду и растворённые минеральные веществ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оторые поступают в корни деревьев. Из корней грибница получ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рганические вещества, необходимые ей для питания и образования плодовых те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Times New Roman"/>
              </a:rPr>
              <a:t>Физкультминутк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ос гриб на тонкой ножк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тань и ты, постой немнож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ышу сделай над соб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овно шляпкой гриб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 тихонечко вздохн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овь грибы учить начнем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Рисунок 3" descr="p7.gif"/>
          <p:cNvPicPr/>
          <p:nvPr/>
        </p:nvPicPr>
        <p:blipFill>
          <a:blip r:embed="rId1"/>
          <a:stretch/>
        </p:blipFill>
        <p:spPr>
          <a:xfrm>
            <a:off x="6588000" y="3213000"/>
            <a:ext cx="2202120" cy="2706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9616E-006 C -0.01476 0.00231 -0.01927 0.00763 -0.03195 0.0111 C -0.04063 0.01341 -0.05122 0.01434 -0.06007 0.01573 C -0.06736 0.01411 -0.07465 0.01318 -0.0816 0.0111 C -0.08906 0.00902 -0.10347 0.00324 -0.10347 0.00347 C -0.10903 -0.00555 -0.11424 -0.00555 -0.12327 -0.00949 C -0.1283 -0.0118 -0.13802 -0.01712 -0.13802 -0.01689 C -0.14219 -0.02869 -0.14774 -0.02475 -0.15486 -0.03146 C -0.16233 -0.03863 -0.16476 -0.04164 -0.17483 -0.04557 C -0.18125 -0.05159 -0.18906 -0.05344 -0.19601 -0.05829 C -0.25208 -0.05691 -0.24844 -0.05529 -0.28768 -0.05182 C -0.30347 -0.04442 -0.31945 -0.03956 -0.33733 -0.03794 C -0.34497 -0.0273 -0.36893 -0.02545 -0.38056 -0.0236 C -0.40799 -0.0192 -0.43386 -0.01712 -0.46181 -0.01573 C -0.48906 -0.01781 -0.50538 -0.02059 -0.52969 -0.02684 C -0.53698 -0.02845 -0.54445 -0.03216 -0.55139 -0.0347 C -0.55747 -0.03678 -0.56979 -0.04071 -0.56979 -0.04048 C -0.57361 -0.05136 -0.56771 -0.03933 -0.58125 -0.04881 C -0.58247 -0.04974 -0.58177 -0.05228 -0.58299 -0.05344 C -0.58403 -0.05459 -0.58629 -0.05459 -0.5882 -0.05506 C -0.59167 -0.0657 -0.60938 -0.06431 -0.61962 -0.06917 C -0.62691 -0.07241 -0.64097 -0.07865 -0.64097 -0.07842 C -0.65886 -0.1041 -0.71042 -0.08698 -0.73073 -0.08652 C -0.73542 -0.08374 -0.7408 -0.08189 -0.74549 -0.07865 C -0.74774 -0.0768 -0.74965 -0.07379 -0.75208 -0.07217 C -0.75538 -0.07055 -0.75903 -0.07032 -0.76233 -0.06917 C -0.76528 -0.06824 -0.76754 -0.0657 -0.77031 -0.06431 C -0.78143 -0.05922 -0.79861 -0.05806 -0.81024 -0.05668 C -0.825 -0.05205 -0.83837 -0.04812 -0.8533 -0.04395 C -0.8684 -0.03331 -0.85035 -0.04442 -0.87014 -0.03794 C -0.87327 -0.03701 -0.875 -0.03377 -0.8783 -0.03308 C -0.88715 -0.031 -0.90521 -0.02984 -0.90521 -0.02961 C -0.91459 -0.031 -0.92465 -0.03054 -0.93455 -0.03308 C -0.93577 -0.03354 -0.93472 -0.03701 -0.93577 -0.03794 C -0.93889 -0.03933 -0.94271 -0.03886 -0.94601 -0.0391 C -0.95139 -0.04095 -0.96077 -0.04719 -0.96077 -0.04696 C -0.96406 -0.05668 -0.9599 -0.04835 -0.9724 -0.05506 C -0.99236 -0.0657 -0.98004 -0.06061 -0.99045 -0.06917 C -0.99566 -0.0731 -1.00191 -0.07518 -1.00729 -0.07865 C -1.0099 -0.08605 -1.00764 -0.08351 -1.01858 -0.08652 C -1.02136 -0.08721 -1.02726 -0.08814 -1.02726 -0.0879 E">
                                      <p:cBhvr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857240" y="4286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42960" y="1143000"/>
          <a:ext cx="7786800" cy="1463760"/>
        </p:xfrm>
        <a:graphic>
          <a:graphicData uri="http://schemas.openxmlformats.org/drawingml/2006/table">
            <a:tbl>
              <a:tblPr/>
              <a:tblGrid>
                <a:gridCol w="1557360"/>
                <a:gridCol w="1557360"/>
                <a:gridCol w="1557360"/>
                <a:gridCol w="1557360"/>
                <a:gridCol w="1557360"/>
              </a:tblGrid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верных ответ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-3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-3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-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-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Прямоугольник 4"/>
          <p:cNvSpPr/>
          <p:nvPr/>
        </p:nvSpPr>
        <p:spPr>
          <a:xfrm>
            <a:off x="2071800" y="50004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оцени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28760" y="3441960"/>
            <a:ext cx="84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ЕЕ ЗАДАНИЕ  Индивидуальное задание на выбор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)  устное сообщение «Грибы-рекордсмены» (необычные грибы), «Грибы нашей местности», «Правила сбора грибов»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) Рисунки съедобных и ядовитых грибов с приложением - пояснением (краткое описа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) сказка собственного сочинения по теме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008000"/>
                </a:solidFill>
                <a:latin typeface="Arial Black"/>
              </a:rPr>
              <a:t>            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Содержимое 3" descr="0_5c7d2_a0d39955_X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 Black"/>
              </a:rPr>
              <a:t>БЕРЕГИТЕ ПРИРОДУ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1500120" y="3244680"/>
            <a:ext cx="5857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0:39:56Z</dcterms:created>
  <dc:creator>Настя</dc:creator>
  <dc:description/>
  <dc:language>en-US</dc:language>
  <cp:lastModifiedBy>Айгерим и Айнар</cp:lastModifiedBy>
  <dcterms:modified xsi:type="dcterms:W3CDTF">2015-04-27T19:58:35Z</dcterms:modified>
  <cp:revision>29</cp:revision>
  <dc:subject/>
  <dc:title>Слайд 1</dc:title>
</cp:coreProperties>
</file>