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gif" ContentType="image/gi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FE4-16F2-4AEE-891D-931F4B00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ECA-FAA1-4E0E-9612-1B9D03F0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AB0-29DA-4741-92F1-70BED770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EE6-8C94-4712-ACE8-78EFBAA7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0358-72E6-4A1E-A366-4A330200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4258-6F07-4E95-89A6-F86165A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46B3-CB91-4435-B79B-95F8B4DF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7D20-02C7-40FF-AAD8-8244DF3C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E7E1-4CB4-48E0-B0AE-EE992AF2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9320-4D4A-4525-8D8C-D80D53A1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CDE1-DEA6-4D6C-8DF7-E0C1AE3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9BF-8D1C-4860-8CD5-2106DF03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CF96-3954-4834-AFDE-A3C75F3D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6DDC-B20E-4660-B251-2165D8E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CE7E-2C19-4CFB-BBD2-0814B0D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DCA6-AD9C-4F70-9123-964DB8CE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55F8-29E6-4FA7-9F36-D1AF3526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948-D518-4F14-B0F6-AD9E2125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601-B2E9-4AD9-B6F7-96DE6971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2F1-203D-487B-AB21-05ABB85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824-925B-43FA-9815-2C321F7E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65E-BCA6-4043-8B2B-6D77013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95F-71C8-4237-9961-27CA188B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C43-1D9F-4375-BB7D-DE40CA7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007D-722A-469D-A0AD-4512043B1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82F6-3E14-449C-AF06-F0DF7B1ABD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85880" y="85716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Общая характеристика грибов как представителей особого царства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тание, дыхание, споровое размножение гри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335772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бы – очень интересные организмы. Они не растения и не живо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этому учёные их выделили в самостоятельную груп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6" descr="13.jpg"/>
          <p:cNvPicPr/>
          <p:nvPr/>
        </p:nvPicPr>
        <p:blipFill>
          <a:blip r:embed="rId1"/>
          <a:stretch/>
        </p:blipFill>
        <p:spPr>
          <a:xfrm>
            <a:off x="4357800" y="2857680"/>
            <a:ext cx="4535280" cy="38574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3857760" y="142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видов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0080" y="571680"/>
            <a:ext cx="6769080" cy="7189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знаки царства гри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916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700280"/>
          <a:ext cx="7848360" cy="37447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раст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движ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ут верхней ча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рочные клеточные стен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 путем всасы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т хлорофи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Гетеротроф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Запасное питательное вещество – глик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Образует мочев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5"/>
          <p:cNvSpPr/>
          <p:nvPr/>
        </p:nvSpPr>
        <p:spPr>
          <a:xfrm>
            <a:off x="179280" y="333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071720" y="5857920"/>
            <a:ext cx="72738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ибы – это особое царство живы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Микори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1908000" y="1268280"/>
            <a:ext cx="590400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684360" y="5511960"/>
            <a:ext cx="7848360" cy="13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рибница поглощает из почвы воду и растворённые минеральные вещ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оторые поступают в корни деревьев. Из корней грибница полу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рганические вещества, необходимые ей для питания и образования плодовых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Физкультминут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 гриб на тонкой нож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нь и ты, постой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шу сделай над со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шляпкой гриб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тихонечко вздохн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вь грибы учить нач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p7.gif"/>
          <p:cNvPicPr/>
          <p:nvPr/>
        </p:nvPicPr>
        <p:blipFill>
          <a:blip r:embed="rId1"/>
          <a:stretch/>
        </p:blipFill>
        <p:spPr>
          <a:xfrm>
            <a:off x="6588000" y="3213000"/>
            <a:ext cx="22021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857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143000"/>
          <a:ext cx="7786800" cy="146376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верных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-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2071800" y="5000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и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344196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 Индивидуальное задание на выбо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 устное сообщение «Грибы-рекордсмены» (необычные грибы), «Грибы нашей местности», «Правила сбора грибов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исунки съедобных и ядовитых грибов с приложением - пояснением (краткое описа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казка собственного сочинения по теме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Содержимое 3" descr="0_5c7d2_a0d399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БЕРЕГИТЕ ПРИРОД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00120" y="3244680"/>
            <a:ext cx="5857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0:39:56Z</dcterms:created>
  <dc:creator>Настя</dc:creator>
  <dc:description/>
  <dc:language>en-US</dc:language>
  <cp:lastModifiedBy>Айгерим и Айнар</cp:lastModifiedBy>
  <dcterms:modified xsi:type="dcterms:W3CDTF">2015-04-27T19:58:35Z</dcterms:modified>
  <cp:revision>29</cp:revision>
  <dc:subject/>
  <dc:title>Слайд 1</dc:title>
</cp:coreProperties>
</file>