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6E07-FAAE-4EBA-85DE-1445BA42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D5D0-2F9C-4423-9824-5BC025DA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4091-324B-49BA-9222-618ED1FDD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2530-F14E-478C-89E3-1BA1B241B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DDCD-CBCE-4CDD-B908-36B65AA3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AD45-3240-435D-9AAD-51FB7CE0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6FC9-B72D-424B-8153-17190787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964B-03AA-49B1-8C73-1B139620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6CEE-1D3A-4DEF-82A7-1FA07171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6368-BDA0-47DD-8413-B4C0CEBD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5067-1BA4-454E-8E5F-3EE48285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9EAA-FE00-4958-AB22-D7146F88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EE6E-0810-46B1-A741-AA21679F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61BE-90C3-4623-A252-A9695640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877F-0795-4813-9417-737282EB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726E-67EA-4388-8FB4-FB195D52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7DB5-34DB-4258-9F15-DE1328240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E25F-F6E0-4D06-A230-BB1146AB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64D0-7421-43B4-AD10-69E3EB2C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5824-DA92-4B0E-A329-41A1434A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E8F9-35CA-4469-BCA3-94E03F2C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01E2-3390-4FF1-A729-42D45B93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AC51-8964-4C5D-9E09-CE3CC1B5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76C0-1244-4EDA-B8FB-A3AB46F1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7908-37B1-4D3B-9D1E-08D16B66719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8333-7B82-4E63-8673-BF4F2645544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5800" y="499680"/>
            <a:ext cx="769608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еңбердің  ұзындығы. </a:t>
            </a:r>
            <a:r>
              <a:rPr b="1" lang="kk-KZ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өңгелектің ауданы. </a:t>
            </a:r>
            <a:r>
              <a:rPr b="1" lang="kk-KZ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ар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22" descr="5f63c578e7d6"/>
          <p:cNvPicPr/>
          <p:nvPr/>
        </p:nvPicPr>
        <p:blipFill>
          <a:blip r:embed="rId1"/>
          <a:stretch/>
        </p:blipFill>
        <p:spPr>
          <a:xfrm>
            <a:off x="-285840" y="4857840"/>
            <a:ext cx="9429840" cy="200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250920" y="170028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920" y="115920"/>
            <a:ext cx="7777440" cy="100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ШАР-болашақ символы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" descr="file1DF0"/>
          <p:cNvPicPr/>
          <p:nvPr/>
        </p:nvPicPr>
        <p:blipFill>
          <a:blip r:embed="rId1"/>
          <a:stretch/>
        </p:blipFill>
        <p:spPr>
          <a:xfrm>
            <a:off x="395280" y="1413000"/>
            <a:ext cx="4248000" cy="452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859280" y="7650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Comic Sans MS"/>
              </a:rPr>
              <a:t>Шар символы жер бетінің мәңгі жасайтынын, өмірдің жойылмайтынын көрсетеді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3" descr="matereki"/>
          <p:cNvPicPr/>
          <p:nvPr/>
        </p:nvPicPr>
        <p:blipFill>
          <a:blip r:embed="rId1"/>
          <a:stretch/>
        </p:blipFill>
        <p:spPr>
          <a:xfrm>
            <a:off x="0" y="981000"/>
            <a:ext cx="4859280" cy="4900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33cc"/>
                </a:solidFill>
                <a:latin typeface="Comic Sans MS"/>
              </a:rPr>
              <a:t>Планеталар да шар тәрізді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6" descr="WTCALQQD0KCAQHQYRUCAWJW7PDCA2RLX2BCA1VLNSJCALG6LXNCAE1H4XACACLEFPQCAHCP8T5CA6X64YYCAQ615YMCATJKWVRCASKPBGACAYO1GDICAX2V0TECAW94G01CAF2Z6PUCAT26EBXCAYZMU0X"/>
          <p:cNvPicPr/>
          <p:nvPr/>
        </p:nvPicPr>
        <p:blipFill>
          <a:blip r:embed="rId1"/>
          <a:stretch/>
        </p:blipFill>
        <p:spPr>
          <a:xfrm>
            <a:off x="5292720" y="1989000"/>
            <a:ext cx="3086280" cy="388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i[11]"/>
          <p:cNvPicPr/>
          <p:nvPr/>
        </p:nvPicPr>
        <p:blipFill>
          <a:blip r:embed="rId2"/>
          <a:stretch/>
        </p:blipFill>
        <p:spPr>
          <a:xfrm>
            <a:off x="755640" y="1484280"/>
            <a:ext cx="4248000" cy="3171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428760"/>
            <a:ext cx="6870600" cy="235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Comic Sans MS"/>
              </a:rPr>
              <a:t>Сыныпта шығарылатын есептер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3000240"/>
            <a:ext cx="7696080" cy="24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16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64,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№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67,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68-</a:t>
            </a:r>
            <a:r>
              <a:rPr b="0" lang="kk-KZ" sz="4800" spc="-1" strike="noStrike">
                <a:solidFill>
                  <a:srgbClr val="000000"/>
                </a:solidFill>
                <a:latin typeface="Comic Sans MS"/>
              </a:rPr>
              <a:t>дің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),2)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6000" spc="-1" strike="noStrike">
                <a:solidFill>
                  <a:srgbClr val="ff0000"/>
                </a:solidFill>
                <a:latin typeface="Comic Sans MS"/>
              </a:rPr>
              <a:t>Үйге тапсырм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2428560"/>
            <a:ext cx="769608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168-</a:t>
            </a:r>
            <a:r>
              <a:rPr b="0" lang="kk-KZ" sz="6000" spc="-1" strike="noStrike">
                <a:solidFill>
                  <a:srgbClr val="000000"/>
                </a:solidFill>
                <a:latin typeface="Comic Sans MS"/>
              </a:rPr>
              <a:t>дің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3),4)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169 есептер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85800" y="571680"/>
            <a:ext cx="76960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бақтың мақсаты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ілімділік: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қушылардың математикаға деген қызығушылығын арттыру, логикалық ойлау қабілеттерін дамыту, алған білімдерін пысықтау, топ үшін жауапкершіліктерін нығайт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мытушылығы: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қушылардың логикалық ойлау қабілеттерін дамыту,танымдық белсенділіктерін  арттыру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әрбиелілігі: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қушыларды шапшаңдыққа, ұқыптылыққа, зеректікке тәрбиеле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785520"/>
            <a:ext cx="769608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Comic Sans MS"/>
              </a:rPr>
              <a:t>Тәжірибелер нәтижесінде кез келген шеңбер үшін, шеңбер ұзындығының оның диаметріне қатынасы тұрақты санға тең екені анықталды. Бұл сан гректің 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kk-KZ" sz="3200" spc="-1" strike="noStrike">
                <a:solidFill>
                  <a:srgbClr val="000000"/>
                </a:solidFill>
                <a:latin typeface="Comic Sans MS"/>
              </a:rPr>
              <a:t> (оқылуы: “пи”)әрпімен белгіленеді.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3,14159265…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Comic Sans MS"/>
              </a:rPr>
              <a:t>Есептеулерде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Π≈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,14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42960" y="713880"/>
            <a:ext cx="7696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Comic Sans MS"/>
              </a:rPr>
              <a:t>Шеңбердің  ұзындығы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Comic Sans MS"/>
              </a:rPr>
              <a:t>Шеңбердің ұзындығы </a:t>
            </a:r>
            <a:r>
              <a:rPr b="1" lang="el-GR" sz="32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1" lang="kk-KZ" sz="3200" spc="-1" strike="noStrike">
                <a:solidFill>
                  <a:srgbClr val="000000"/>
                </a:solidFill>
                <a:latin typeface="Comic Sans MS"/>
              </a:rPr>
              <a:t> саны мен шеңбер диаметрінің көбейтіндісіне тең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=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 Π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=2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Comic Sans MS"/>
              </a:rPr>
              <a:t>Сонда шеңбердің ұзындығының формулас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C=2</a:t>
            </a:r>
            <a:r>
              <a:rPr b="0" i="1" lang="el-GR" sz="4000" spc="-1" strike="noStrike">
                <a:solidFill>
                  <a:srgbClr val="ff0000"/>
                </a:solidFill>
                <a:latin typeface="Comic Sans MS"/>
              </a:rPr>
              <a:t> Π</a:t>
            </a:r>
            <a:r>
              <a:rPr b="0" i="1" lang="en-US" sz="4000" spc="-1" strike="noStrike">
                <a:solidFill>
                  <a:srgbClr val="ff0000"/>
                </a:solidFill>
                <a:latin typeface="Comic Sans MS"/>
              </a:rPr>
              <a:t>R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85800" y="428760"/>
            <a:ext cx="7696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0000"/>
                </a:solidFill>
                <a:latin typeface="Comic Sans MS"/>
              </a:rPr>
              <a:t>Дөңгелектің  аудан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Дөңгелектің ауданы оның радиусының квадраты мен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дің көбейтіндісіне тең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Мұндағы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-</a:t>
            </a: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 дөңгелектің ауданы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-</a:t>
            </a: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 дөңгелектің радиус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3357720" y="2143080"/>
            <a:ext cx="2181240" cy="990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05480" y="1142640"/>
            <a:ext cx="3776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ерілген (О) нүктесі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шардың центрі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п атала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Шардың кез келген нүктесін центрмен қосатын кесінді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шардың радиусы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шар радиусы) деп аталады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Шардың кез келген нүктесін қосатын және оның центрі арқылы өтетін кесінді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шардың диаметрі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п аталады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12" descr="snap0023"/>
          <p:cNvPicPr/>
          <p:nvPr/>
        </p:nvPicPr>
        <p:blipFill>
          <a:blip r:embed="rId1"/>
          <a:stretch/>
        </p:blipFill>
        <p:spPr>
          <a:xfrm>
            <a:off x="971640" y="1844640"/>
            <a:ext cx="3290760" cy="3673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835280" y="260280"/>
            <a:ext cx="547344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ар сегменті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63" name="Group 3"/>
          <p:cNvGrpSpPr/>
          <p:nvPr/>
        </p:nvGrpSpPr>
        <p:grpSpPr>
          <a:xfrm>
            <a:off x="250920" y="1413000"/>
            <a:ext cx="3526920" cy="3960360"/>
            <a:chOff x="250920" y="1413000"/>
            <a:chExt cx="3526920" cy="3960360"/>
          </a:xfrm>
        </p:grpSpPr>
        <p:pic>
          <p:nvPicPr>
            <p:cNvPr id="164" name="Picture 4" descr="сегмент"/>
            <p:cNvPicPr/>
            <p:nvPr/>
          </p:nvPicPr>
          <p:blipFill>
            <a:blip r:embed="rId1"/>
            <a:stretch/>
          </p:blipFill>
          <p:spPr>
            <a:xfrm>
              <a:off x="250920" y="1413000"/>
              <a:ext cx="3489840" cy="39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5"/>
            <p:cNvSpPr/>
            <p:nvPr/>
          </p:nvSpPr>
          <p:spPr>
            <a:xfrm>
              <a:off x="2655360" y="1728720"/>
              <a:ext cx="112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В =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6" name="Oval 6"/>
          <p:cNvSpPr/>
          <p:nvPr/>
        </p:nvSpPr>
        <p:spPr>
          <a:xfrm>
            <a:off x="3708360" y="1341360"/>
            <a:ext cx="5435640" cy="3095640"/>
          </a:xfrm>
          <a:prstGeom prst="ellipse">
            <a:avLst/>
          </a:prstGeom>
          <a:gradFill rotWithShape="0">
            <a:gsLst>
              <a:gs pos="0">
                <a:srgbClr val="766f2f"/>
              </a:gs>
              <a:gs pos="50000">
                <a:srgbClr val="ffef66"/>
              </a:gs>
              <a:gs pos="100000">
                <a:srgbClr val="766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4535640" y="2286000"/>
            <a:ext cx="403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Мұндағы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 биіктік болып табыла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280" y="3068280"/>
            <a:ext cx="5900760" cy="8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Comic Sans MS"/>
              </a:rPr>
              <a:t>Сфера </a:t>
            </a:r>
            <a:r>
              <a:rPr b="0" lang="kk-KZ" sz="5400" spc="-1" strike="noStrike">
                <a:solidFill>
                  <a:srgbClr val="0033cc"/>
                </a:solidFill>
                <a:latin typeface="Comic Sans MS"/>
              </a:rPr>
              <a:t>және</a:t>
            </a:r>
            <a:r>
              <a:rPr b="0" lang="ru-RU" sz="5400" spc="-1" strike="noStrike">
                <a:solidFill>
                  <a:srgbClr val="0033cc"/>
                </a:solidFill>
                <a:latin typeface="Comic Sans MS"/>
              </a:rPr>
              <a:t> шар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4" descr="i"/>
          <p:cNvPicPr/>
          <p:nvPr/>
        </p:nvPicPr>
        <p:blipFill>
          <a:blip r:embed="rId1"/>
          <a:stretch/>
        </p:blipFill>
        <p:spPr>
          <a:xfrm>
            <a:off x="0" y="0"/>
            <a:ext cx="5113440" cy="2882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i?id=13804661&amp;tov=2"/>
          <p:cNvPicPr/>
          <p:nvPr/>
        </p:nvPicPr>
        <p:blipFill>
          <a:blip r:embed="rId2"/>
          <a:stretch/>
        </p:blipFill>
        <p:spPr>
          <a:xfrm>
            <a:off x="6012000" y="3789360"/>
            <a:ext cx="2950920" cy="284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355640" y="126828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сфера” сөзі гректің “сфайра” сөзінен қазақшаға аударғанда, “доп” деген мағынаны білдіреді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10" descr="MPj04306530000[1]"/>
          <p:cNvPicPr/>
          <p:nvPr/>
        </p:nvPicPr>
        <p:blipFill>
          <a:blip r:embed="rId1"/>
          <a:stretch/>
        </p:blipFill>
        <p:spPr>
          <a:xfrm>
            <a:off x="324000" y="836640"/>
            <a:ext cx="3946320" cy="432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01:44:24Z</dcterms:created>
  <dc:creator>СОШ №36</dc:creator>
  <dc:description/>
  <dc:language>en-US</dc:language>
  <cp:lastModifiedBy>Samat</cp:lastModifiedBy>
  <dcterms:modified xsi:type="dcterms:W3CDTF">2015-01-19T05:47:59Z</dcterms:modified>
  <cp:revision>13</cp:revision>
  <dc:subject/>
  <dc:title>Сфера и шар</dc:title>
</cp:coreProperties>
</file>