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A36C-96BC-41A4-BC94-6AF8C79A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C77-D129-4D23-9364-252A1AB9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E24-CB5B-4E93-95DB-AB27C411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75ED-5F84-46F1-84BB-40310CE7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F5D6-ED26-4269-814D-C6BEE4F7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0247-327F-4C4C-9106-7700FEC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CFD6-17A2-42C1-9B5D-20FB6EA5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1234-D548-4BCA-83FA-1C574E0A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1CE3-5B3C-4F73-BD1B-512E4669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32EE-41D9-4F72-B45C-41224548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8884-DB75-4366-9D45-EBAEB3C1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1239-B3A2-4D14-BAC5-7A49667A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439E-DC2C-4AA4-BF91-445204DC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71DB-5620-40EB-ADA7-F7195713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CF8C-A45D-48DD-90E1-3082C06F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ACBE-7327-4FE3-B29F-4B4AE515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418B-8F78-4839-B9FC-6E9358CF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7ADB-42FE-4D95-9D58-CBC0D0CA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DBB-7670-4429-9C9B-5E6E24F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C637-02A8-4C6C-B006-AA154B9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2BA8-6BA1-4B5E-B58A-D8C80572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7F1-B0F1-42D2-AE3F-D8BBB2F5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9D4-CC8D-4394-8460-37E61690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D4F6-B5FA-4BD7-B035-F207629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1E9A-11E7-4902-911A-41A2AC00C39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7A47-1D54-42CC-B2E3-BC2C47A23EF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499680"/>
            <a:ext cx="76960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еңбердің  ұзындығы. </a:t>
            </a:r>
            <a:r>
              <a:rPr b="1" lang="kk-KZ" sz="7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өңгелектің ауданы. </a:t>
            </a:r>
            <a:r>
              <a:rPr b="1" lang="kk-KZ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р.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22" descr="5f63c578e7d6"/>
          <p:cNvPicPr/>
          <p:nvPr/>
        </p:nvPicPr>
        <p:blipFill>
          <a:blip r:embed="rId1"/>
          <a:stretch/>
        </p:blipFill>
        <p:spPr>
          <a:xfrm>
            <a:off x="-285840" y="4857840"/>
            <a:ext cx="9429840" cy="2000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5092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777440" cy="100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ШАР-болашақ символы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file1DF0"/>
          <p:cNvPicPr/>
          <p:nvPr/>
        </p:nvPicPr>
        <p:blipFill>
          <a:blip r:embed="rId1"/>
          <a:stretch/>
        </p:blipFill>
        <p:spPr>
          <a:xfrm>
            <a:off x="395280" y="1413000"/>
            <a:ext cx="4248000" cy="452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Comic Sans MS"/>
              </a:rPr>
              <a:t>Шар символы жер бетінің мәңгі жасайтынын, өмірдің жойылмайтынын көрсетеді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matereki"/>
          <p:cNvPicPr/>
          <p:nvPr/>
        </p:nvPicPr>
        <p:blipFill>
          <a:blip r:embed="rId1"/>
          <a:stretch/>
        </p:blipFill>
        <p:spPr>
          <a:xfrm>
            <a:off x="0" y="981000"/>
            <a:ext cx="4859280" cy="490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33cc"/>
                </a:solidFill>
                <a:latin typeface="Comic Sans MS"/>
              </a:rPr>
              <a:t>Планеталар да шар тәрізді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WTCALQQD0KCAQHQYRUCAWJW7PDCA2RLX2BCA1VLNSJCALG6LXNCAE1H4XACACLEFPQCAHCP8T5CA6X64YYCAQ615YMCATJKWVRCASKPBGACAYO1GDICAX2V0TECAW94G01CAF2Z6PUCAT26EBXCAYZMU0X"/>
          <p:cNvPicPr/>
          <p:nvPr/>
        </p:nvPicPr>
        <p:blipFill>
          <a:blip r:embed="rId1"/>
          <a:stretch/>
        </p:blipFill>
        <p:spPr>
          <a:xfrm>
            <a:off x="5292720" y="1989000"/>
            <a:ext cx="3086280" cy="388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i[11]"/>
          <p:cNvPicPr/>
          <p:nvPr/>
        </p:nvPicPr>
        <p:blipFill>
          <a:blip r:embed="rId2"/>
          <a:stretch/>
        </p:blipFill>
        <p:spPr>
          <a:xfrm>
            <a:off x="755640" y="1484280"/>
            <a:ext cx="4248000" cy="317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28760"/>
            <a:ext cx="68706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Сыныпта шығарылатын есептер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3000240"/>
            <a:ext cx="7696080" cy="24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162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4,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7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48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),2)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ff0000"/>
                </a:solidFill>
                <a:latin typeface="Comic Sans MS"/>
              </a:rPr>
              <a:t>Үйге тапсырм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2428560"/>
            <a:ext cx="769608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8-</a:t>
            </a:r>
            <a:r>
              <a:rPr b="0" lang="kk-KZ" sz="6000" spc="-1" strike="noStrike">
                <a:solidFill>
                  <a:srgbClr val="000000"/>
                </a:solidFill>
                <a:latin typeface="Comic Sans MS"/>
              </a:rPr>
              <a:t>дің 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3),4)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169 есептер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571680"/>
            <a:ext cx="769608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бақтың мақсат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ілімділік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математикаға деген қызығушылығын арттыру, логикалық ойлау қабілеттерін дамыту, алған білімдерін пысықтау, топ үшін жауапкершіліктерін нығай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мытушылығы: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ң логикалық ойлау қабілеттерін дамыту,танымдық белсенділіктерін  арттыру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әрбиелілігі: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қушыларды шапшаңдыққа, ұқыптылыққа, зеректікке тәрбиеле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785520"/>
            <a:ext cx="7696080" cy="47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Тәжірибелер нәтижесінде кез келген шеңбер үшін, шеңбер ұзындығының оның диаметріне қатынасы тұрақты санға тең екені анықталды. Бұл сан гректің 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 (оқылуы: “пи”)әрпімен белгіленеді.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3,14159265…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omic Sans MS"/>
              </a:rPr>
              <a:t>Есептеулерде 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Π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,14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42960" y="713880"/>
            <a:ext cx="7696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0000"/>
                </a:solidFill>
                <a:latin typeface="Comic Sans MS"/>
              </a:rPr>
              <a:t>Шеңбердің  ұзындығ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Шеңбердің ұзындығы </a:t>
            </a: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 саны мен шеңбер диаметрінің көбейтіндісіне тең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=</a:t>
            </a:r>
            <a:r>
              <a:rPr b="0" lang="el-GR" sz="3200" spc="-1" strike="noStrike">
                <a:solidFill>
                  <a:srgbClr val="000000"/>
                </a:solidFill>
                <a:latin typeface="Comic Sans MS"/>
              </a:rPr>
              <a:t> Π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=2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omic Sans MS"/>
              </a:rPr>
              <a:t>Сонда шеңбердің ұзындығының формулас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C=2</a:t>
            </a:r>
            <a:r>
              <a:rPr b="0" i="1" lang="el-GR" sz="4000" spc="-1" strike="noStrike">
                <a:solidFill>
                  <a:srgbClr val="ff0000"/>
                </a:solidFill>
                <a:latin typeface="Comic Sans MS"/>
              </a:rPr>
              <a:t> Π</a:t>
            </a:r>
            <a:r>
              <a:rPr b="0" i="1" lang="en-US" sz="4000" spc="-1" strike="noStrike">
                <a:solidFill>
                  <a:srgbClr val="ff0000"/>
                </a:solidFill>
                <a:latin typeface="Comic Sans MS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85800" y="428760"/>
            <a:ext cx="7696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f0000"/>
                </a:solidFill>
                <a:latin typeface="Comic Sans MS"/>
              </a:rPr>
              <a:t>Дөңгелектің  аудан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өңгелектің ауданы оның радиусының квадраты мен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дің көбейтіндісіне тең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Мұндағы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ауданы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-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 дөңгелектің радиус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357720" y="2143080"/>
            <a:ext cx="2181240" cy="990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05480" y="1142640"/>
            <a:ext cx="3776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рілген (О) нүктес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цен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центрмен қосаты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радиусы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шар радиусы) деп аталады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Шардың кез келген нүктесін қосатын және оның центрі арқылы өтетін кесінді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шардың диаметрі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еп аталады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12" descr="snap0023"/>
          <p:cNvPicPr/>
          <p:nvPr/>
        </p:nvPicPr>
        <p:blipFill>
          <a:blip r:embed="rId1"/>
          <a:stretch/>
        </p:blipFill>
        <p:spPr>
          <a:xfrm>
            <a:off x="971640" y="1844640"/>
            <a:ext cx="3290760" cy="3673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35280" y="260280"/>
            <a:ext cx="547344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ар сегменті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Group 3"/>
          <p:cNvGrpSpPr/>
          <p:nvPr/>
        </p:nvGrpSpPr>
        <p:grpSpPr>
          <a:xfrm>
            <a:off x="250920" y="1413000"/>
            <a:ext cx="3526920" cy="3960360"/>
            <a:chOff x="250920" y="1413000"/>
            <a:chExt cx="3526920" cy="3960360"/>
          </a:xfrm>
        </p:grpSpPr>
        <p:pic>
          <p:nvPicPr>
            <p:cNvPr id="164" name="Picture 4" descr="сегмент"/>
            <p:cNvPicPr/>
            <p:nvPr/>
          </p:nvPicPr>
          <p:blipFill>
            <a:blip r:embed="rId1"/>
            <a:stretch/>
          </p:blipFill>
          <p:spPr>
            <a:xfrm>
              <a:off x="250920" y="1413000"/>
              <a:ext cx="3489840" cy="39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2655360" y="1728720"/>
              <a:ext cx="112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В =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6" name="Oval 6"/>
          <p:cNvSpPr/>
          <p:nvPr/>
        </p:nvSpPr>
        <p:spPr>
          <a:xfrm>
            <a:off x="3708360" y="1341360"/>
            <a:ext cx="5435640" cy="3095640"/>
          </a:xfrm>
          <a:prstGeom prst="ellipse">
            <a:avLst/>
          </a:prstGeom>
          <a:gradFill rotWithShape="0">
            <a:gsLst>
              <a:gs pos="0">
                <a:srgbClr val="766f2f"/>
              </a:gs>
              <a:gs pos="50000">
                <a:srgbClr val="ffef66"/>
              </a:gs>
              <a:gs pos="100000">
                <a:srgbClr val="766f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4535640" y="2286000"/>
            <a:ext cx="403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Мұндағы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 биіктік болып табылады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3068280"/>
            <a:ext cx="590076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фера </a:t>
            </a:r>
            <a:r>
              <a:rPr b="0" lang="kk-KZ" sz="5400" spc="-1" strike="noStrike">
                <a:solidFill>
                  <a:srgbClr val="0033cc"/>
                </a:solidFill>
                <a:latin typeface="Comic Sans MS"/>
              </a:rPr>
              <a:t>және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ша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i"/>
          <p:cNvPicPr/>
          <p:nvPr/>
        </p:nvPicPr>
        <p:blipFill>
          <a:blip r:embed="rId1"/>
          <a:stretch/>
        </p:blipFill>
        <p:spPr>
          <a:xfrm>
            <a:off x="0" y="0"/>
            <a:ext cx="5113440" cy="288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i?id=13804661&amp;tov=2"/>
          <p:cNvPicPr/>
          <p:nvPr/>
        </p:nvPicPr>
        <p:blipFill>
          <a:blip r:embed="rId2"/>
          <a:stretch/>
        </p:blipFill>
        <p:spPr>
          <a:xfrm>
            <a:off x="6012000" y="3789360"/>
            <a:ext cx="2950920" cy="284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355640" y="12682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k-KZ" sz="2800" spc="-1" strike="noStrike">
                <a:solidFill>
                  <a:srgbClr val="000000"/>
                </a:solidFill>
                <a:latin typeface="Comic Sans MS"/>
              </a:rPr>
              <a:t>сфера” сөзі гректің “сфайра” сөзінен қазақшаға аударғанда, “доп” деген мағынаны білдіреді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10" descr="MPj04306530000[1]"/>
          <p:cNvPicPr/>
          <p:nvPr/>
        </p:nvPicPr>
        <p:blipFill>
          <a:blip r:embed="rId1"/>
          <a:stretch/>
        </p:blipFill>
        <p:spPr>
          <a:xfrm>
            <a:off x="324000" y="836640"/>
            <a:ext cx="3946320" cy="432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9T01:44:24Z</dcterms:created>
  <dc:creator>СОШ №36</dc:creator>
  <dc:description/>
  <dc:language>en-US</dc:language>
  <cp:lastModifiedBy>Samat</cp:lastModifiedBy>
  <dcterms:modified xsi:type="dcterms:W3CDTF">2015-01-19T05:47:59Z</dcterms:modified>
  <cp:revision>13</cp:revision>
  <dc:subject/>
  <dc:title>Сфера и шар</dc:title>
</cp:coreProperties>
</file>