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E6F-2F7A-4649-A934-59CF4D36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BEC-67EF-44A7-A336-AB585C13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54F-7602-419E-8B09-D33043BB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31E-CBB0-4906-A8A7-9C630E95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CAD0-E8F0-4E66-97A3-A7E9801F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608F-8871-4B16-B02D-F63B70CF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4A77-D09B-4C0F-B330-DCB93D62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0722-EF0D-46F2-B03D-FB284B0D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22ED-FF6E-43A2-AA3E-018617E6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B5A8-CAD5-4E3B-9EB5-41CF2C9F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570B-5773-4793-B5F3-9C235179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F81-9D06-49E5-B3D0-8C0B6C31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C945-5399-49D0-8825-3EC41812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A202-BDE2-4275-887F-13443B8F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D7AA-1CD4-4CFF-8160-6AB690D4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C4DD-62AC-4A8A-B38F-04E50830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F25C-6A54-49EC-94CF-E72F2137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FFB-742E-4FD0-8C8B-7FCB4C52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9BB-A127-472B-9C68-7FE3A78B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12C-1085-4680-BF76-60308018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4C2-06E9-4843-9FFE-07D46566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48E-6105-4ED6-B88B-3FBC9FEF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C1D-ECCF-4D52-A333-41174BDE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766-D4E3-41BE-A026-9AAD7CF1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0BA0-A706-48AE-9EE5-A0D6F3B40F0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7E08-5F6C-4EF7-91A5-3DFFB819C1B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499680"/>
            <a:ext cx="7696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ңбердің  ұзындығы. </a:t>
            </a:r>
            <a:r>
              <a:rPr b="1" lang="kk-KZ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өңгелектің ауданы. </a:t>
            </a: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2" descr="5f63c578e7d6"/>
          <p:cNvPicPr/>
          <p:nvPr/>
        </p:nvPicPr>
        <p:blipFill>
          <a:blip r:embed="rId1"/>
          <a:stretch/>
        </p:blipFill>
        <p:spPr>
          <a:xfrm>
            <a:off x="-285840" y="4857840"/>
            <a:ext cx="9429840" cy="20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7002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77744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ШАР-болашақ символ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file1DF0"/>
          <p:cNvPicPr/>
          <p:nvPr/>
        </p:nvPicPr>
        <p:blipFill>
          <a:blip r:embed="rId1"/>
          <a:stretch/>
        </p:blipFill>
        <p:spPr>
          <a:xfrm>
            <a:off x="395280" y="1413000"/>
            <a:ext cx="4248000" cy="452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59280" y="7650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Comic Sans MS"/>
              </a:rPr>
              <a:t>Шар символы жер бетінің мәңгі жасайтынын, өмірдің жойылмайтынын көрсете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3" descr="matereki"/>
          <p:cNvPicPr/>
          <p:nvPr/>
        </p:nvPicPr>
        <p:blipFill>
          <a:blip r:embed="rId1"/>
          <a:stretch/>
        </p:blipFill>
        <p:spPr>
          <a:xfrm>
            <a:off x="0" y="981000"/>
            <a:ext cx="4859280" cy="49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33cc"/>
                </a:solidFill>
                <a:latin typeface="Comic Sans MS"/>
              </a:rPr>
              <a:t>Планеталар да шар тәрізді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WTCALQQD0KCAQHQYRUCAWJW7PDCA2RLX2BCA1VLNSJCALG6LXNCAE1H4XACACLEFPQCAHCP8T5CA6X64YYCAQ615YMCATJKWVRCASKPBGACAYO1GDICAX2V0TECAW94G01CAF2Z6PUCAT26EBXCAYZMU0X"/>
          <p:cNvPicPr/>
          <p:nvPr/>
        </p:nvPicPr>
        <p:blipFill>
          <a:blip r:embed="rId1"/>
          <a:stretch/>
        </p:blipFill>
        <p:spPr>
          <a:xfrm>
            <a:off x="5292720" y="1989000"/>
            <a:ext cx="3086280" cy="388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i[11]"/>
          <p:cNvPicPr/>
          <p:nvPr/>
        </p:nvPicPr>
        <p:blipFill>
          <a:blip r:embed="rId2"/>
          <a:stretch/>
        </p:blipFill>
        <p:spPr>
          <a:xfrm>
            <a:off x="755640" y="1484280"/>
            <a:ext cx="4248000" cy="31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28760"/>
            <a:ext cx="68706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Сыныпта шығарылатын есепте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3000240"/>
            <a:ext cx="769608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16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4,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7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48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),2)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ff0000"/>
                </a:solidFill>
                <a:latin typeface="Comic Sans MS"/>
              </a:rPr>
              <a:t>Үйге тапсырм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2428560"/>
            <a:ext cx="76960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60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),4)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9 есептер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571680"/>
            <a:ext cx="7696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бақтың мақса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лімділік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математикаға деген қызығушылығын арттыру, логикалық ойлау қабілеттерін дамыту, алған білімдерін пысықтау, топ үшін жауапкершіліктерін нығай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ытушылығы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логикалық ойлау қабілеттерін дамыту,танымдық белсенділіктерін  арттыр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әрбиелілігі: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 шапшаңдыққа, ұқыптылыққа, зеректікке тәрбиеле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785520"/>
            <a:ext cx="76960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Тәжірибелер нәтижесінде кез келген шеңбер үшін, шеңбер ұзындығының оның диаметріне қатынасы тұрақты санға тең екені анықталды. Бұл сан гректің 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(оқылуы: “пи”)әрпімен белгіленеді.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3,14159265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Есептеулерде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,1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42960" y="713880"/>
            <a:ext cx="7696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Шеңбердің  ұзындығ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Шеңбердің ұзындығы 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 саны мен шеңбер диаметрінің көбейтіндісіне тең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 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=2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Сонда шеңбердің ұзындығының формула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=2</a:t>
            </a:r>
            <a:r>
              <a:rPr b="0" i="1" lang="el-GR" sz="4000" spc="-1" strike="noStrike">
                <a:solidFill>
                  <a:srgbClr val="ff0000"/>
                </a:solidFill>
                <a:latin typeface="Comic Sans MS"/>
              </a:rPr>
              <a:t> Π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428760"/>
            <a:ext cx="7696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Дөңгелектің  ауда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өңгелектің ауданы оның радиусының квадраты мен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ің көбейтіндісіне тең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Мұндағ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ауданы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радиус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218124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05480" y="1142640"/>
            <a:ext cx="3776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ілген (О) нүктес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цен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центрмен қосаты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радиус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шар радиусы) деп аталады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қосатын және оның центрі арқылы өтеті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диаме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2" descr="snap0023"/>
          <p:cNvPicPr/>
          <p:nvPr/>
        </p:nvPicPr>
        <p:blipFill>
          <a:blip r:embed="rId1"/>
          <a:stretch/>
        </p:blipFill>
        <p:spPr>
          <a:xfrm>
            <a:off x="971640" y="1844640"/>
            <a:ext cx="329076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35280" y="260280"/>
            <a:ext cx="5473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 сегмент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0920" y="1413000"/>
            <a:ext cx="3526920" cy="3960360"/>
            <a:chOff x="250920" y="1413000"/>
            <a:chExt cx="3526920" cy="3960360"/>
          </a:xfrm>
        </p:grpSpPr>
        <p:pic>
          <p:nvPicPr>
            <p:cNvPr id="164" name="Picture 4" descr="сегмент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3489840" cy="39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2655360" y="172872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В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Oval 6"/>
          <p:cNvSpPr/>
          <p:nvPr/>
        </p:nvSpPr>
        <p:spPr>
          <a:xfrm>
            <a:off x="3708360" y="1341360"/>
            <a:ext cx="5435640" cy="3095640"/>
          </a:xfrm>
          <a:prstGeom prst="ellipse">
            <a:avLst/>
          </a:prstGeom>
          <a:gradFill rotWithShape="0">
            <a:gsLst>
              <a:gs pos="0">
                <a:srgbClr val="766f2f"/>
              </a:gs>
              <a:gs pos="50000">
                <a:srgbClr val="ffef66"/>
              </a:gs>
              <a:gs pos="100000">
                <a:srgbClr val="766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35640" y="228600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Мұндағ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биіктік болып табы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3068280"/>
            <a:ext cx="590076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Сфера </a:t>
            </a:r>
            <a:r>
              <a:rPr b="0" lang="kk-KZ" sz="5400" spc="-1" strike="noStrike">
                <a:solidFill>
                  <a:srgbClr val="0033cc"/>
                </a:solidFill>
                <a:latin typeface="Comic Sans MS"/>
              </a:rPr>
              <a:t>және</a:t>
            </a: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 ша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5113440" cy="28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i?id=13804661&amp;tov=2"/>
          <p:cNvPicPr/>
          <p:nvPr/>
        </p:nvPicPr>
        <p:blipFill>
          <a:blip r:embed="rId2"/>
          <a:stretch/>
        </p:blipFill>
        <p:spPr>
          <a:xfrm>
            <a:off x="6012000" y="3789360"/>
            <a:ext cx="2950920" cy="28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355640" y="12682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сфера” сөзі гректің “сфайра” сөзінен қазақшаға аударғанда, “доп” деген мағынаны білдіреді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MPj04306530000[1]"/>
          <p:cNvPicPr/>
          <p:nvPr/>
        </p:nvPicPr>
        <p:blipFill>
          <a:blip r:embed="rId1"/>
          <a:stretch/>
        </p:blipFill>
        <p:spPr>
          <a:xfrm>
            <a:off x="324000" y="836640"/>
            <a:ext cx="394632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1:44:24Z</dcterms:created>
  <dc:creator>СОШ №36</dc:creator>
  <dc:description/>
  <dc:language>en-US</dc:language>
  <cp:lastModifiedBy>Samat</cp:lastModifiedBy>
  <dcterms:modified xsi:type="dcterms:W3CDTF">2015-01-19T05:47:59Z</dcterms:modified>
  <cp:revision>13</cp:revision>
  <dc:subject/>
  <dc:title>Сфера и шар</dc:title>
</cp:coreProperties>
</file>