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834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83200" cy="97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3"/>
          </p:nvPr>
        </p:nvSpPr>
        <p:spPr>
          <a:xfrm>
            <a:off x="3897360" y="-360"/>
            <a:ext cx="298296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014120" y="728640"/>
            <a:ext cx="4854600" cy="364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4"/>
          </p:nvPr>
        </p:nvSpPr>
        <p:spPr>
          <a:xfrm>
            <a:off x="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5"/>
          </p:nvPr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93C3-2B29-4016-A31B-57D0C8195E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0D8B-FD17-436E-B675-5C63D7B227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C011-49B8-4193-8FAB-9D417B2718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E658-5CB4-43D5-928D-8C867FE112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6E22-AEAE-44C2-A348-D412B4BF89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4BE2-D9BB-4B02-8344-5EEE7BCFFD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36A5-E690-47EF-A797-EC1E0CC639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A540-9DF1-4698-976C-DCDC901BE5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408A-4D24-4EDE-95AF-132850C72A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6156-E1C9-4EA5-8579-7AE33EE581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6E43-1AF1-4AEA-A9EE-BCCE093417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6F5F-59D7-49BD-8C7A-BECBEC8FA0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FB3D-DB0A-487E-BBF8-CF2123DAFA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3482-D225-4D65-B7CE-33BBC7EFC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CFC1-AF78-4B31-A23A-EF45405A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2DEA-DF6C-43CC-B5F7-4BB0CFE37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6BB0-7C67-401C-BB5E-3591172DA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1ABF-B3BC-4AE8-8315-C4E169FF9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2E8D-6ABC-4D9A-B538-B2A133B5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11EAB-75BA-429C-AF89-977A7251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7EC5F-73E4-4014-8C76-252B8E33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9C99-00CF-479E-8931-AC053AAD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2829-D13F-4C6E-903C-BD6CCBDB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14AA-B659-4E06-A19D-958DD018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B84F-3660-4078-871C-3415D38C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59DD-41D3-4BBE-8E7D-0CEDE51D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024D-2CD7-4EF3-8149-52D3B5AD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E66F8-888C-4C3B-A6A7-37F849E7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FA24-E37C-47E6-8B8D-97F75062C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8781-F543-4706-ADA0-A0424A1B6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73278-266A-4031-A7EA-844FACECF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3B9CD-F266-49FA-B9D6-6A2930B0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342B4-105E-49A5-8459-CFE891FB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AC4F2-3FDD-4558-835A-F42E651E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3E88B-FDB5-4512-A0B1-8CBA0688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59C8-C06E-4D2F-AF92-96DF8103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D59CA-790E-4BCB-B8B1-6812F400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AD2F9-94D9-42AB-8FCA-5343DDD7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1677C-4F75-482B-AE9A-F9EA0A1E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9C465-DE74-4020-BC62-F4D2A726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78F5F-01DB-4D40-A992-5F0B54D5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CC911-87E8-4336-8E9E-81ABC52BE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DF163-ADA3-446E-8C33-8BDCAC4B5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83105-A7F8-43C2-AEA1-C932BDEE7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BE64F-A3F3-49B2-A57D-397647FD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25033-D7C6-45AD-9208-DA3E04F3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FB79-F3B5-48C3-9F58-4AF80C80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FC41B-6A3E-458B-BC74-E8DA9020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4AAEA-F6F8-4168-826B-FD55890D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80361-000A-433B-BBFC-BCF8C81B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FD7FC-D1C1-42C4-8FA2-401A562B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14BDB-CDB7-48BF-A33A-2BE23016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96327-8778-4079-BE4D-BD7F2978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BF857-603B-4080-B98F-AEC89E85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D5157-0E40-439C-ACE4-5DC4ECDD0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18CF8-8A94-4E57-A123-3B0A6118B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6AB3-5900-4BCB-83C1-EC2AC751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99CD-5C67-4CF1-B606-2ADA1C7C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760D-74A9-4293-A491-C87A1130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95C0-9A40-4AA6-85CB-D24C41F7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FF38-E014-427C-80A3-6507568C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aed2"/>
            </a:gs>
            <a:gs pos="100000">
              <a:srgbClr val="ebfa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1205000.png"/>
          <p:cNvPicPr/>
          <p:nvPr/>
        </p:nvPicPr>
        <p:blipFill>
          <a:blip r:embed="rId2"/>
          <a:stretch/>
        </p:blipFill>
        <p:spPr>
          <a:xfrm>
            <a:off x="0" y="0"/>
            <a:ext cx="1728720" cy="1657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4e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F3F2-8371-4BCB-9942-FEC55DC54A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285640" y="6324480"/>
            <a:ext cx="289548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C96C-A489-4792-87F7-BC3DD3B3F68C}" type="slidenum">
              <a:rPr b="1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9ed0"/>
            </a:gs>
            <a:gs pos="100000">
              <a:srgbClr val="ebfa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6" descr="1205000.png"/>
          <p:cNvPicPr/>
          <p:nvPr/>
        </p:nvPicPr>
        <p:blipFill>
          <a:blip r:embed="rId2"/>
          <a:stretch/>
        </p:blipFill>
        <p:spPr>
          <a:xfrm>
            <a:off x="0" y="0"/>
            <a:ext cx="1728720" cy="1657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4e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4ED1-25B6-4AC8-94B1-ABB6F0D635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4e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A695-5FC7-4FA9-A062-3899D064CB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8278920" cy="39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астер – класс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Использование приемов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     критического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ышления на уроках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в начальных классах»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78920" y="4797000"/>
            <a:ext cx="8425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 КГ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орнеевская средняя школа» Макухина Ю.В.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C:\Users\29\Desktop\Снимок.JPG"/>
          <p:cNvPicPr/>
          <p:nvPr/>
        </p:nvPicPr>
        <p:blipFill>
          <a:blip r:embed="rId1"/>
          <a:stretch/>
        </p:blipFill>
        <p:spPr>
          <a:xfrm>
            <a:off x="5778360" y="1554120"/>
            <a:ext cx="278604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5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комендуемые приёмы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 стадии осмысл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186920" y="1125360"/>
            <a:ext cx="6697800" cy="573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нсерт»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пометки на поля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ение с останов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Тонкие и толстые вопрос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Мозговой штур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Фишбоу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Взаимоопрос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Горячий сту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737856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Приём «Инсерт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475920"/>
            <a:ext cx="8964720" cy="638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тапы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Каждому ученику выдается текст и  таб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 Прочитывание и осмысление текста с последующими пометками на полях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+» - если считают, что это им извест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-» - если считают, что это противоречит тем знаниям, которые у них е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» - если то, что прочитали, является новы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?» - если то, что прочитали, оказалось непонятным и требует разъяснений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. Систематизация текс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. Заполнение таблицы в виде сжатой информации (это может быть слово, фраза, понятие и т.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. Обсуждение в группах по заданной 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7. Затем идет межгрупповое обсуждение  каждого столб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136000" cy="74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ставляется индивидуально по результатам работы с тексто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826920" y="2205000"/>
          <a:ext cx="7561440" cy="2087640"/>
        </p:xfrm>
        <a:graphic>
          <a:graphicData uri="http://schemas.openxmlformats.org/drawingml/2006/table">
            <a:tbl>
              <a:tblPr/>
              <a:tblGrid>
                <a:gridCol w="1890720"/>
                <a:gridCol w="1890720"/>
                <a:gridCol w="1889280"/>
                <a:gridCol w="1890720"/>
              </a:tblGrid>
              <a:tr h="135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Зна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«+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Хочу узн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«-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Узнал нов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«</a:t>
                      </a:r>
                      <a:r>
                        <a:rPr b="0" i="1" lang="en-US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V</a:t>
                      </a: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Вопро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«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</a:tr>
              <a:tr h="73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</a:tr>
            </a:tbl>
          </a:graphicData>
        </a:graphic>
      </p:graphicFrame>
      <p:sp>
        <p:nvSpPr>
          <p:cNvPr id="201" name="Rectangle 30"/>
          <p:cNvSpPr/>
          <p:nvPr/>
        </p:nvSpPr>
        <p:spPr>
          <a:xfrm>
            <a:off x="468360" y="4508640"/>
            <a:ext cx="813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атериал обсуждается в парах и сообщается учителю, который её фиксирует. Обсуждение позволяет систематизировать информацию и выделить главные вопро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7440" cy="6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Таблица аргументов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71280" y="1052640"/>
            <a:ext cx="7272360" cy="129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читель даёт аргументы. Учащиеся должны их опровергнуть или подтвердить фактами имеющихся знаний по данной т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55640" y="3357720"/>
          <a:ext cx="7800840" cy="1676160"/>
        </p:xfrm>
        <a:graphic>
          <a:graphicData uri="http://schemas.openxmlformats.org/drawingml/2006/table">
            <a:tbl>
              <a:tblPr/>
              <a:tblGrid>
                <a:gridCol w="2600280"/>
                <a:gridCol w="2600280"/>
                <a:gridCol w="2600280"/>
              </a:tblGrid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ргум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меля в сказке «По щучьему велению» был лентя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чему «д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чему «нет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Приём «Тонкие и толстые вопросы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ahoma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84360" y="836640"/>
          <a:ext cx="7921440" cy="5113440"/>
        </p:xfrm>
        <a:graphic>
          <a:graphicData uri="http://schemas.openxmlformats.org/drawingml/2006/table">
            <a:tbl>
              <a:tblPr/>
              <a:tblGrid>
                <a:gridCol w="3960720"/>
                <a:gridCol w="3960720"/>
              </a:tblGrid>
              <a:tr h="592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нкие вопросы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лстые вопросы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521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кто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что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когда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может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будет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мог ли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как звали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было ли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согласны ли вы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верно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дайте объяснение, почему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почему вы думаете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почему вы считаете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в чем разница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предположите, что будет, если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что, если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246320" y="213840"/>
            <a:ext cx="6867360" cy="636840"/>
          </a:xfrm>
          <a:prstGeom prst="rect">
            <a:avLst/>
          </a:prstGeom>
          <a:solidFill>
            <a:srgbClr val="cfd3e4"/>
          </a:solidFill>
          <a:ln w="28440">
            <a:solidFill>
              <a:srgbClr val="336699"/>
            </a:solidFill>
            <a:miter/>
          </a:ln>
        </p:spPr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ункции стадии рефлекси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6"/>
          <p:cNvSpPr/>
          <p:nvPr/>
        </p:nvSpPr>
        <p:spPr>
          <a:xfrm>
            <a:off x="971640" y="2997360"/>
            <a:ext cx="7272360" cy="107928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отив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побуждение к дальнейшему расшире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нформационного пол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7"/>
          <p:cNvSpPr/>
          <p:nvPr/>
        </p:nvSpPr>
        <p:spPr>
          <a:xfrm>
            <a:off x="1042920" y="5589720"/>
            <a:ext cx="7129440" cy="863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ценоч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выработка собственной пози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8"/>
          <p:cNvSpPr/>
          <p:nvPr/>
        </p:nvSpPr>
        <p:spPr>
          <a:xfrm>
            <a:off x="1042920" y="4437000"/>
            <a:ext cx="7129440" cy="863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нформ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приобретение новых зна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9"/>
          <p:cNvSpPr/>
          <p:nvPr/>
        </p:nvSpPr>
        <p:spPr>
          <a:xfrm>
            <a:off x="971640" y="1700280"/>
            <a:ext cx="7129440" cy="863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оммуник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обмен мнениями о новой информа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6859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комендуемые приёмы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 стадии рефлекси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4360" y="1676160"/>
            <a:ext cx="7920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ём «Перепутанные логические цепоч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то нового вы узнали на уро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писание синквей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ём «Написание ЭСС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иём «Класте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ем «Горячий стул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6394320" cy="81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Кластер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спользуется как средство для подведения итог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 стимул для возникновения новых ассоциац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графических изображений новых зн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тапы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. Выписывается ключевое слов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. Записываются слова и предложения по т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3. Происходит разделение материала на отдельные бло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4. Устанавливаются и выражаются графически логические связи между бло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6859800" cy="39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оздание группового кластера со словом учитель. Защита кластера группами.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50560" y="907920"/>
            <a:ext cx="797868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13744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Перепутанные логические цепочки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85840" y="1125360"/>
            <a:ext cx="8572320" cy="481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тапы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. На доске или карточках написаны термины (последовательность терминов), некоторые из них с ошибк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. Группам предлагается исправить ошибки или восстановить порядок запис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ули Программы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676160"/>
            <a:ext cx="8136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ые подходы в преподавании и обуче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критическому мышле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ивание для обучения и оценивание об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ИКТ в преподавании и обуче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талантливых и одаренных уче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подавание и обучение в соответствии с ВО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и лидерство в обуч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31640" y="0"/>
            <a:ext cx="646596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Синквейн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964720" cy="60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Синквейн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это стихотворение, которое требует синтеза информации и материала в кратких выражен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Правила напис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вая строчка – название темы в одном слове (существительно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торая строчка – описание темы в двух словах (прилагательные или причаст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ретья строчка – описание действия в трёх словах(глаголы или деепричаст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етвёртая строчка – это фраза их четырёх слов, показывающая отношение к т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иноним из одного слова, который повторяет суть 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0160" y="380880"/>
            <a:ext cx="6859440" cy="268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актическое задание: составление синквейна к словам мышление, обучени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02920" y="404640"/>
            <a:ext cx="685980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актик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ем «Горячий стул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640720" cy="180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ние на уроках приемов критического мышления дает ученику: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2803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757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повышение эффективности восприятия информации;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- повышение интереса как к изучаемому материалу, так и к самому процессу обучения;</a:t>
            </a:r>
            <a:br>
              <a:rPr sz="2400"/>
            </a:b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умение критически мыслить;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ahoma"/>
              </a:rPr>
              <a:t>- </a:t>
            </a:r>
            <a:r>
              <a:rPr b="1" lang="ru-RU" sz="2400" spc="-1" strike="noStrike">
                <a:solidFill>
                  <a:srgbClr val="00337f"/>
                </a:solidFill>
                <a:latin typeface="Tahoma"/>
              </a:rPr>
              <a:t>умение ответственно относиться к собственному образованию;</a:t>
            </a:r>
            <a:br>
              <a:rPr sz="2400"/>
            </a:b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умение работать в сотрудничестве с другими;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- повышение качества образования учеников;</a:t>
            </a:r>
            <a:br>
              <a:rPr sz="2400"/>
            </a:b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желание и умение стать человеком, который учится в течение все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000" y="380520"/>
            <a:ext cx="8280360" cy="153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ние на уроках приемов критического мышления дает учителю: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7905600" cy="47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умение создать в классе атмосферу открытости и ответственного сотрудничества;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- возможность использовать модель обучения и систему эффективных методик, которые способствуют развитию критического мышления и самостоятельности в процессе обучения;</a:t>
            </a:r>
            <a:br>
              <a:rPr sz="2400"/>
            </a:b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стать практиками, которые умеют грамотно анализировать свою деятельность;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- стать источником ценной профессиональной информации для других учителей.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417080" cy="126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флексия «Пожелание»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95280" y="620280"/>
            <a:ext cx="8137440" cy="46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ю вам цвести, ра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ить, крепить здоров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о для дальнего пут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ейшее усло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каждый день и каждый ч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м новой добуд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добрым будет ум у в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ердце будет ум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м от души желаю 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зья, всего хорош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се хорошее, друзь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ется нам недеше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             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Марш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376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Удачи Вам во всем,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орогие коллеги!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Спасибо за внимание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71280" y="3805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Модуль «Обучение критическому мышлению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Цель данно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о Модуля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- развитие мыслительных навыков учащихся, необходимых не только в учёбе, но и в обычной жизни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анный Модуль представляет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собой совокупность разнообразных приёмов, направленных на то, чтобы сначала заинтересовать ученик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Данный Модуль-это целостная система, </a:t>
            </a:r>
            <a:r>
              <a:rPr b="1" i="1" lang="ru-RU" sz="2400" spc="-1" strike="noStrike">
                <a:solidFill>
                  <a:srgbClr val="0000ff"/>
                </a:solidFill>
                <a:latin typeface="Tahoma"/>
              </a:rPr>
              <a:t>которая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Tahoma"/>
              </a:rPr>
              <a:t>развивает продуктивное творческое мышление, формирует интеллектуальные умения, навыки работы с информацией,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учит уч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428760" y="2357280"/>
          <a:ext cx="8143920" cy="3286440"/>
        </p:xfrm>
        <a:graphic>
          <a:graphicData uri="http://schemas.openxmlformats.org/drawingml/2006/table">
            <a:tbl>
              <a:tblPr/>
              <a:tblGrid>
                <a:gridCol w="2714400"/>
                <a:gridCol w="2716200"/>
                <a:gridCol w="2713320"/>
              </a:tblGrid>
              <a:tr h="16243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адия вызо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адия осмысл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адия рефлекс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</a:tr>
              <a:tr h="16621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раткое обобщение имеющихся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думчивая работа с новыми понятия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нтеграция новых и имеющихся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</a:tr>
            </a:tbl>
          </a:graphicData>
        </a:graphic>
      </p:graphicFrame>
      <p:sp>
        <p:nvSpPr>
          <p:cNvPr id="181" name="Прямоугольник 11"/>
          <p:cNvSpPr/>
          <p:nvPr/>
        </p:nvSpPr>
        <p:spPr>
          <a:xfrm>
            <a:off x="1143000" y="357120"/>
            <a:ext cx="692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тади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аботы по Модулю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бучение критическому мышлени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918440" y="578520"/>
            <a:ext cx="5666760" cy="733680"/>
          </a:xfrm>
          <a:prstGeom prst="rect">
            <a:avLst/>
          </a:prstGeom>
          <a:solidFill>
            <a:srgbClr val="cfd3e4"/>
          </a:solidFill>
          <a:ln w="28440">
            <a:solidFill>
              <a:srgbClr val="336699"/>
            </a:solidFill>
            <a:miter/>
          </a:ln>
        </p:spPr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ункции стадии вызов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971640" y="1916280"/>
            <a:ext cx="7272360" cy="86328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отив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пробуждение интереса и побуждение к работ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7"/>
          <p:cNvSpPr/>
          <p:nvPr/>
        </p:nvSpPr>
        <p:spPr>
          <a:xfrm>
            <a:off x="1042920" y="3573360"/>
            <a:ext cx="7201080" cy="1079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нформ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актуализация (вызов «на поверхность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же имеющихся зна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1042920" y="5300640"/>
            <a:ext cx="7201080" cy="100800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оммуник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бесконфликтный обмен мнениям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Рекомендуемые приёмы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на стадии вызов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826920" y="1267920"/>
            <a:ext cx="7632720" cy="55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Корзина и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Вы согласны с этим высказыванием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Как бы вы прокомментировали эпиграф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Верите ли вы, что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З-Х-У» («знаю-хочу узнать-узнал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68594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ем «Верите ли вы, что…»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68000" y="1125360"/>
            <a:ext cx="8280360" cy="460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Верите ли вы, что по окончанию семинара, вы что-нибудь возьмёте для своей педагогической копил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Верите ли вы, что устанете сегодня на семинар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Верите ли вы, что можно детей научить учить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920" y="115560"/>
            <a:ext cx="6859440" cy="68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Корзина идей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39640" y="98064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то такое критическое мышление в вашем понима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111680" y="502920"/>
            <a:ext cx="7135560" cy="667440"/>
          </a:xfrm>
          <a:prstGeom prst="rect">
            <a:avLst/>
          </a:prstGeom>
          <a:solidFill>
            <a:srgbClr val="cfd3e4"/>
          </a:solidFill>
          <a:ln w="28440">
            <a:solidFill>
              <a:srgbClr val="336699"/>
            </a:solidFill>
            <a:miter/>
          </a:ln>
        </p:spPr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ункции стадии осмысле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6"/>
          <p:cNvSpPr/>
          <p:nvPr/>
        </p:nvSpPr>
        <p:spPr>
          <a:xfrm>
            <a:off x="1042920" y="2060640"/>
            <a:ext cx="7272360" cy="863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нформ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получение новой информа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7"/>
          <p:cNvSpPr/>
          <p:nvPr/>
        </p:nvSpPr>
        <p:spPr>
          <a:xfrm>
            <a:off x="1116000" y="3933720"/>
            <a:ext cx="7201080" cy="863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истематиз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классификация, распределение информации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29</cp:lastModifiedBy>
  <cp:lastPrinted>2013-04-28T11:35:22Z</cp:lastPrinted>
  <dcterms:modified xsi:type="dcterms:W3CDTF">2014-11-17T10:42:26Z</dcterms:modified>
  <cp:revision>65</cp:revision>
  <dc:subject/>
  <dc:title>Современные образовательные технологии</dc:title>
</cp:coreProperties>
</file>