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144000" cy="6858000"/>
  <p:notesSz cx="68834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83200" cy="97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296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3"/>
          </p:nvPr>
        </p:nvSpPr>
        <p:spPr>
          <a:xfrm>
            <a:off x="3897360" y="-360"/>
            <a:ext cx="2982960" cy="485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014120" y="728640"/>
            <a:ext cx="4854600" cy="364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4"/>
          </p:nvPr>
        </p:nvSpPr>
        <p:spPr>
          <a:xfrm>
            <a:off x="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5"/>
          </p:nvPr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7230-775C-447F-B0BE-05C9A309E2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0DC1-6F78-4A18-AE54-7A36102BE8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AED2-B2C7-4CEF-B283-D9423BDB2E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E566-D1A1-4CDE-B14D-6EDAC5AAE6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A3040-C5FD-473E-9D09-058F23BA65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6A2E-E81B-49D0-B4D5-A9744F1CB9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1B55-E369-49CC-AA66-13F45E89D3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97EF-A788-416F-8285-A99345DB71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BE6A-10DD-41D8-A74A-19D2F782CF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C1B98-8479-444E-AD97-791297D6A5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A37A-A3D7-4D63-AECB-01FD5F5827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2C4E-82E6-4582-96DD-BC4149C73B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014480" y="728640"/>
            <a:ext cx="4854600" cy="3641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8680" y="4613040"/>
            <a:ext cx="550548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97360" y="9223200"/>
            <a:ext cx="29829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A3EB-2066-4862-904F-8F1257444D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DDAD-1B0D-438F-9BEE-09AB91E85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AE9D-C596-46F0-9450-CBADC2AF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8287-A928-4905-8DF5-3DA4E6823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53CD-8C18-4CE4-8458-F7EB3BB52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461C-9F29-469C-9FCB-A1A7FD705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D8029-B464-4D73-893E-9E253929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8124-AA97-49F6-A026-E4808A8E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1126-FD10-4A74-8809-90097A6F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E4C5-7023-42AD-865E-25CB2163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3E82-348D-404D-9AC4-05A82BDF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4D61-E7CE-4D73-B4F1-202A7081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54C1-217B-42AC-8331-40347B11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562B-AAB0-4575-8FE5-567AD6E3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F175-9DEF-404C-823D-444B39E0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188F-13E9-4949-91B6-68054ED9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3A4A-4C92-4376-B034-0466BAF24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B8CD-90EE-49C3-8B6D-56849DC9F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0F780-3286-4C5F-B2EB-BAD046B5D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5F302-E562-4DCE-9A7F-A8343966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16761-8C99-4C76-A6E7-54E8DD7E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C70F7-1DAE-47EF-BC45-1D6E62A3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4C04F-7908-49A0-9C41-7B3A070D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05BD-56D1-438D-8CF7-873289C5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228AD-0235-4A89-827B-A31CD8C5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EDBC2-87A7-4F95-80FD-4DB69BE6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717EA-0F2E-4F58-BAA9-001EBAC1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609F2-513E-451D-B5BD-9E959F0AF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FC622-6898-49D8-BFC4-4A5FA94E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B579F-10CD-4D6A-A5E2-0EAF460DE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3F38D-4D7A-48B5-9464-231E5C602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13E9E-2D17-482D-BC23-72CB617FD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AC800-1DED-496D-9573-439064DB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B7157-5170-446C-B2D6-8ABE57F8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8473-4257-44C9-BAB9-F951179B9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B2679-A332-43B7-9B57-A37A70F9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A41ED-0864-4433-BEAC-B64E9330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A0C7F-5309-4B30-A127-98ACFE8C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A07B7-F3CC-42E9-94CC-A50DB450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124D5-8EE7-416B-90E0-29C4A6D2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119B6-D793-4D17-AEFE-C7FAA879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479E7-BBD3-4389-B8CD-76BDCEB6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4E580-9BE4-43A8-9E88-9F13AAB4E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6903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08760" y="167616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137160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6903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08760" y="3904920"/>
            <a:ext cx="220788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5C00C-33BE-42C9-98A8-4F42ADDF1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A2BF-43F6-4E71-B501-DF1BAD20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0160" y="380520"/>
            <a:ext cx="685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8E15-7BBB-4C07-B103-44358D435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B1FD-2C9F-46AB-824D-63508F99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5920" y="390492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4734-8664-400C-93E0-5168ECEF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5920" y="1676160"/>
            <a:ext cx="334656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3904920"/>
            <a:ext cx="6858000" cy="203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C6B4-1411-48AA-82FB-3D4B39FC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4aed2"/>
            </a:gs>
            <a:gs pos="100000">
              <a:srgbClr val="ebfa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1205000.png"/>
          <p:cNvPicPr/>
          <p:nvPr/>
        </p:nvPicPr>
        <p:blipFill>
          <a:blip r:embed="rId2"/>
          <a:stretch/>
        </p:blipFill>
        <p:spPr>
          <a:xfrm>
            <a:off x="0" y="0"/>
            <a:ext cx="1728720" cy="1657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4e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59AB-7009-4870-A725-8D42CE89D1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71600" y="1676160"/>
            <a:ext cx="6858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228600" y="63262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285640" y="6324480"/>
            <a:ext cx="289548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5410080" y="6324480"/>
            <a:ext cx="190512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DA2CB-1853-4E34-A570-CDD92A59B4CB}" type="slidenum">
              <a:rPr b="1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29ed0"/>
            </a:gs>
            <a:gs pos="100000">
              <a:srgbClr val="ebfa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6" descr="1205000.png"/>
          <p:cNvPicPr/>
          <p:nvPr/>
        </p:nvPicPr>
        <p:blipFill>
          <a:blip r:embed="rId2"/>
          <a:stretch/>
        </p:blipFill>
        <p:spPr>
          <a:xfrm>
            <a:off x="0" y="0"/>
            <a:ext cx="1728720" cy="1657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4e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959C-78D4-4C36-811B-C980A930948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4e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4e6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4e6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e6d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4e6d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5ADB-CE9F-400C-AD04-456BCCD390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8278920" cy="39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астер – класс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Использование приемов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     критического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ышления на уроках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  в начальных классах»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78920" y="4797000"/>
            <a:ext cx="8425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 КГ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орнеевская средняя школа» Макухина Ю.В.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C:\Users\29\Desktop\Снимок.JPG"/>
          <p:cNvPicPr/>
          <p:nvPr/>
        </p:nvPicPr>
        <p:blipFill>
          <a:blip r:embed="rId1"/>
          <a:stretch/>
        </p:blipFill>
        <p:spPr>
          <a:xfrm>
            <a:off x="5778360" y="1554120"/>
            <a:ext cx="278604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5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комендуемые приёмы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стадии осмыслени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186920" y="1125360"/>
            <a:ext cx="6697800" cy="573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нсерт»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пометки на поля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ение с останов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Тонкие и толстые вопрос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Мозговой штур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Фишбоу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Взаимоопрос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Горячий сту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37856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Приём «Инсерт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475920"/>
            <a:ext cx="8964720" cy="638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апы рабо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Каждому ученику выдается текст и  таб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 Прочитывание и осмысление текста с последующими пометками на полях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+» - если считают, что это им извест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-» - если считают, что это противоречит тем знаниям, которые у них е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» - если то, что прочитали, является новы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?» - если то, что прочитали, оказалось непонятным и требует разъяснений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. Систематизация текс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. Заполнение таблицы в виде сжатой информации (это может быть слово, фраза, понятие и т.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. Обсуждение в группах по заданной 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7. Затем идет межгрупповое обсуждение  каждого столб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836640"/>
            <a:ext cx="8136000" cy="74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ставляется индивидуально по результатам работы с текстом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826920" y="2205000"/>
          <a:ext cx="7561440" cy="2087640"/>
        </p:xfrm>
        <a:graphic>
          <a:graphicData uri="http://schemas.openxmlformats.org/drawingml/2006/table">
            <a:tbl>
              <a:tblPr/>
              <a:tblGrid>
                <a:gridCol w="1890720"/>
                <a:gridCol w="1890720"/>
                <a:gridCol w="1889280"/>
                <a:gridCol w="1890720"/>
              </a:tblGrid>
              <a:tr h="135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Зна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«+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Хочу узн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«-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Узнал нов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«</a:t>
                      </a:r>
                      <a:r>
                        <a:rPr b="0" i="1" lang="en-US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V</a:t>
                      </a: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Вопро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«?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</a:tr>
              <a:tr h="73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</a:tr>
            </a:tbl>
          </a:graphicData>
        </a:graphic>
      </p:graphicFrame>
      <p:sp>
        <p:nvSpPr>
          <p:cNvPr id="201" name="Rectangle 30"/>
          <p:cNvSpPr/>
          <p:nvPr/>
        </p:nvSpPr>
        <p:spPr>
          <a:xfrm>
            <a:off x="468360" y="4508640"/>
            <a:ext cx="813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атериал обсуждается в парах и сообщается учителю, который её фиксирует. Обсуждение позволяет систематизировать информацию и выделить главные вопрос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7440" cy="67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Таблица аргументов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71280" y="1052640"/>
            <a:ext cx="7272360" cy="129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читель даёт аргументы. Учащиеся должны их опровергнуть или подтвердить фактами имеющихся знаний по данной 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55640" y="3357720"/>
          <a:ext cx="7800840" cy="1676160"/>
        </p:xfrm>
        <a:graphic>
          <a:graphicData uri="http://schemas.openxmlformats.org/drawingml/2006/table">
            <a:tbl>
              <a:tblPr/>
              <a:tblGrid>
                <a:gridCol w="2600280"/>
                <a:gridCol w="2600280"/>
                <a:gridCol w="2600280"/>
              </a:tblGrid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ргум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меля в сказке «По щучьему велению» был лентя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чему «д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чему «нет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99"/>
                      </a:solidFill>
                    </a:lnL>
                    <a:lnR w="1368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Приём «Тонкие и толстые вопросы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728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ahoma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84360" y="836640"/>
          <a:ext cx="7921440" cy="5113440"/>
        </p:xfrm>
        <a:graphic>
          <a:graphicData uri="http://schemas.openxmlformats.org/drawingml/2006/table">
            <a:tbl>
              <a:tblPr/>
              <a:tblGrid>
                <a:gridCol w="3960720"/>
                <a:gridCol w="3960720"/>
              </a:tblGrid>
              <a:tr h="592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нкие вопросы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лстые вопросы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4521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кто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что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когда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может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будет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мог ли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как звали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было ли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согласны ли вы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верно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дайте объяснение, почему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очему вы думаете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очему вы считаете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в чем разница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предположите, что будет, если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6699"/>
                          </a:solidFill>
                          <a:latin typeface="Arial"/>
                        </a:rPr>
                        <a:t>что, если..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246320" y="213840"/>
            <a:ext cx="6867360" cy="636840"/>
          </a:xfrm>
          <a:prstGeom prst="rect">
            <a:avLst/>
          </a:prstGeom>
          <a:solidFill>
            <a:srgbClr val="cfd3e4"/>
          </a:solidFill>
          <a:ln w="28440">
            <a:solidFill>
              <a:srgbClr val="336699"/>
            </a:solidFill>
            <a:miter/>
          </a:ln>
        </p:spPr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 стадии рефлексии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6"/>
          <p:cNvSpPr/>
          <p:nvPr/>
        </p:nvSpPr>
        <p:spPr>
          <a:xfrm>
            <a:off x="971640" y="2997360"/>
            <a:ext cx="7272360" cy="107928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отив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обуждение к дальнейшему расшире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нформационного пол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7"/>
          <p:cNvSpPr/>
          <p:nvPr/>
        </p:nvSpPr>
        <p:spPr>
          <a:xfrm>
            <a:off x="1042920" y="5589720"/>
            <a:ext cx="7129440" cy="863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ценоч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выработка собственной пози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8"/>
          <p:cNvSpPr/>
          <p:nvPr/>
        </p:nvSpPr>
        <p:spPr>
          <a:xfrm>
            <a:off x="1042920" y="4437000"/>
            <a:ext cx="7129440" cy="863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нформ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риобретение новых зна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971640" y="1700280"/>
            <a:ext cx="7129440" cy="863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оммуник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обмен мнениями о новой информ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6859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екомендуемые приёмы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стадии рефлекси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4360" y="1676160"/>
            <a:ext cx="7920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ём «Перепутанные логические цепоч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о нового вы узнали на уро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писание синкве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ём «Написание ЭСС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иём «Класте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ем «Горячий стул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76360" y="-360"/>
            <a:ext cx="6394320" cy="81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Кластер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8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спользуется как средство для подведения итого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ак стимул для возникновения новых ассоциац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 графических изображений новых зн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тапы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. Выписывается ключевое слов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. Записываются слова и предложения по т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3. Происходит разделение материала на отдельные бло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4. Устанавливаются и выражаются графически логические связи между бло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0407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6859800" cy="39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оздание группового кластера со словом учитель. Защита кластера группами.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50560" y="907920"/>
            <a:ext cx="7978680" cy="19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13744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Перепутанные логические цепочки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85840" y="1125360"/>
            <a:ext cx="8572320" cy="481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Этапы рабо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. На доске или карточках написаны термины (последовательность терминов), некоторые из них с ошибкам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. Группам предлагается исправить ошибки или восстановить порядок запис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ули Программы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67616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ые подходы в преподавании и обуче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критическому мышле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ивание для обучения и оценивание обуч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ИКТ в преподавании и обучен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талантливых и одаренных уче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подавание и обучение в соответствии с ВО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и лидерство в обуч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31640" y="0"/>
            <a:ext cx="646596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Синквейн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79280" y="764640"/>
            <a:ext cx="8964720" cy="609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Синквейн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это стихотворение, которое требует синтеза информации и материала в кратких выражен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Правила напис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вая строчка – название темы в одном слове (существительно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торая строчка – описание темы в двух словах (прилагательные или причаст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ретья строчка – описание действия в трёх словах(глаголы или деепричаст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етвёртая строчка – это фраза их четырёх слов, показывающая отношение к те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иноним из одного слова, который повторяет суть 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0160" y="380880"/>
            <a:ext cx="6859440" cy="268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актическое задание: составление синквейна к словам мышление, обучени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02920" y="404640"/>
            <a:ext cx="6859800" cy="26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актик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ем «Горячий стул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640720" cy="180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ние на уроках приемов критического мышления дает ученику: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23640" y="1557000"/>
            <a:ext cx="82803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7572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повышение эффективности восприятия информации;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- повышение интереса как к изучаемому материалу, так и к самому процессу обучения;</a:t>
            </a:r>
            <a:br>
              <a:rPr sz="2400"/>
            </a:b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умение критически мыслить;</a:t>
            </a:r>
            <a:br>
              <a:rPr sz="2400"/>
            </a:br>
            <a:r>
              <a:rPr b="1" lang="ru-RU" sz="2400" spc="-1" strike="noStrike">
                <a:solidFill>
                  <a:srgbClr val="0070c0"/>
                </a:solidFill>
                <a:latin typeface="Tahoma"/>
              </a:rPr>
              <a:t>- </a:t>
            </a:r>
            <a:r>
              <a:rPr b="1" lang="ru-RU" sz="2400" spc="-1" strike="noStrike">
                <a:solidFill>
                  <a:srgbClr val="00337f"/>
                </a:solidFill>
                <a:latin typeface="Tahoma"/>
              </a:rPr>
              <a:t>умение ответственно относиться к собственному образованию;</a:t>
            </a:r>
            <a:br>
              <a:rPr sz="2400"/>
            </a:b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умение работать в сотрудничестве с другими;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- повышение качества образования учеников;</a:t>
            </a:r>
            <a:br>
              <a:rPr sz="2400"/>
            </a:b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желание и умение стать человеком, который учится в течение все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000" y="380520"/>
            <a:ext cx="8280360" cy="153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пользование на уроках приемов критического мышления дает учителю: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7905600" cy="47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умение создать в классе атмосферу открытости и ответственного сотрудничества;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- возможность использовать модель обучения и систему эффективных методик, которые способствуют развитию критического мышления и самостоятельности в процессе обучения;</a:t>
            </a:r>
            <a:br>
              <a:rPr sz="2400"/>
            </a:br>
            <a:r>
              <a:rPr b="1" lang="ru-RU" sz="2400" spc="-1" strike="noStrike">
                <a:solidFill>
                  <a:srgbClr val="275728"/>
                </a:solidFill>
                <a:latin typeface="Tahoma"/>
              </a:rPr>
              <a:t>- стать практиками, которые умеют грамотно анализировать свою деятельность;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- стать источником ценной профессиональной информации для других учителей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417080" cy="126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ефлексия «Пожелание»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95280" y="620280"/>
            <a:ext cx="8137440" cy="467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ю вам цвести, ра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ить, крепить здоров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о для дальнего пут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ейшее усло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каждый день и каждый ч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м новой добуд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добрым будет ум у в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ердце будет ум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м от души желаю 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зья, всего хорош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се хорошее, друзь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ся нам недеше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              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Марш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0160" y="380520"/>
            <a:ext cx="6859440" cy="376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Удачи Вам во всем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орогие коллеги!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Спасибо за внимание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71280" y="380520"/>
            <a:ext cx="7257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Модуль «Обучение критическому мышлению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46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Цель данно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го Модуля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- развитие мыслительных навыков учащихся, необходимых не только в учёбе, но и в обычной жизни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анный Модуль представляет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собой совокупность разнообразных приёмов, направленных на то, чтобы сначала заинтересовать ученик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Данный Модуль-это целостная система, </a:t>
            </a: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которая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развивает продуктивное творческое мышление, формирует интеллектуальные умения, навыки работы с информацией,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учит уч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428760" y="2357280"/>
          <a:ext cx="8143920" cy="3286440"/>
        </p:xfrm>
        <a:graphic>
          <a:graphicData uri="http://schemas.openxmlformats.org/drawingml/2006/table">
            <a:tbl>
              <a:tblPr/>
              <a:tblGrid>
                <a:gridCol w="2714400"/>
                <a:gridCol w="2716200"/>
                <a:gridCol w="2713320"/>
              </a:tblGrid>
              <a:tr h="16243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адия вызо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адия осмысл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тадия рефлекс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13680">
                      <a:solidFill>
                        <a:srgbClr val="336699"/>
                      </a:solidFill>
                    </a:lnT>
                    <a:lnB w="5760">
                      <a:solidFill>
                        <a:srgbClr val="336699"/>
                      </a:solidFill>
                    </a:lnB>
                    <a:solidFill>
                      <a:srgbClr val="cfd3e4"/>
                    </a:solidFill>
                  </a:tcPr>
                </a:tc>
              </a:tr>
              <a:tr h="16621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раткое обобщение имеющихся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думчивая работа с новыми понятия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теграция новых и имеющихся зн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6699"/>
                      </a:solidFill>
                    </a:lnL>
                    <a:lnR w="5760">
                      <a:solidFill>
                        <a:srgbClr val="336699"/>
                      </a:solidFill>
                    </a:lnR>
                    <a:lnT w="5760">
                      <a:solidFill>
                        <a:srgbClr val="336699"/>
                      </a:solidFill>
                    </a:lnT>
                    <a:lnB w="13680">
                      <a:solidFill>
                        <a:srgbClr val="336699"/>
                      </a:solidFill>
                    </a:lnB>
                    <a:solidFill>
                      <a:srgbClr val="cce0ff"/>
                    </a:solidFill>
                  </a:tcPr>
                </a:tc>
              </a:tr>
            </a:tbl>
          </a:graphicData>
        </a:graphic>
      </p:graphicFrame>
      <p:sp>
        <p:nvSpPr>
          <p:cNvPr id="181" name="Прямоугольник 11"/>
          <p:cNvSpPr/>
          <p:nvPr/>
        </p:nvSpPr>
        <p:spPr>
          <a:xfrm>
            <a:off x="1143000" y="357120"/>
            <a:ext cx="692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тади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работы по Модулю </a:t>
            </a:r>
            <a:br>
              <a:rPr sz="3200"/>
            </a:b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бучение критическому мышлению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918440" y="578520"/>
            <a:ext cx="5666760" cy="733680"/>
          </a:xfrm>
          <a:prstGeom prst="rect">
            <a:avLst/>
          </a:prstGeom>
          <a:solidFill>
            <a:srgbClr val="cfd3e4"/>
          </a:solidFill>
          <a:ln w="28440">
            <a:solidFill>
              <a:srgbClr val="336699"/>
            </a:solidFill>
            <a:miter/>
          </a:ln>
        </p:spPr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 стадии вызова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6"/>
          <p:cNvSpPr/>
          <p:nvPr/>
        </p:nvSpPr>
        <p:spPr>
          <a:xfrm>
            <a:off x="971640" y="1916280"/>
            <a:ext cx="7272360" cy="86328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отив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робуждение интереса и побуждение к работ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"/>
          <p:cNvSpPr/>
          <p:nvPr/>
        </p:nvSpPr>
        <p:spPr>
          <a:xfrm>
            <a:off x="1042920" y="3573360"/>
            <a:ext cx="7201080" cy="1079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нформ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актуализация (вызов «на поверхность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же имеющихся зна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1042920" y="5300640"/>
            <a:ext cx="7201080" cy="100800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Коммуник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бесконфликтный обмен мнения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Рекомендуемые приёмы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на стадии вызов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826920" y="1267920"/>
            <a:ext cx="7632720" cy="558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Корзина и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Вы согласны с этим высказыванием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Как бы вы прокомментировали эпиграф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«Верите ли вы, что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ем «З-Х-У» («знаю-хочу узнать-узнал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16000" y="189000"/>
            <a:ext cx="685944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ем «Верите ли вы, что…»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68000" y="1125360"/>
            <a:ext cx="8280360" cy="460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Верите ли вы, что по окончанию семинара, вы что-нибудь возьмёте для своей педагогической копилк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Верите ли вы, что устанете сегодня на семинар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Верите ли вы, что можно детей научить учить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920" y="115560"/>
            <a:ext cx="6859440" cy="68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ём «Корзина идей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39640" y="98064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то такое критическое мышление в вашем пониман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111680" y="502920"/>
            <a:ext cx="7135560" cy="667440"/>
          </a:xfrm>
          <a:prstGeom prst="rect">
            <a:avLst/>
          </a:prstGeom>
          <a:solidFill>
            <a:srgbClr val="cfd3e4"/>
          </a:solidFill>
          <a:ln w="28440">
            <a:solidFill>
              <a:srgbClr val="336699"/>
            </a:solidFill>
            <a:miter/>
          </a:ln>
        </p:spPr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Функции стадии осмысления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6"/>
          <p:cNvSpPr/>
          <p:nvPr/>
        </p:nvSpPr>
        <p:spPr>
          <a:xfrm>
            <a:off x="1042920" y="2060640"/>
            <a:ext cx="7272360" cy="863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Информ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получение новой информ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7"/>
          <p:cNvSpPr/>
          <p:nvPr/>
        </p:nvSpPr>
        <p:spPr>
          <a:xfrm>
            <a:off x="1116000" y="3933720"/>
            <a:ext cx="7201080" cy="863640"/>
          </a:xfrm>
          <a:prstGeom prst="flowChartAlternateProcess">
            <a:avLst/>
          </a:prstGeom>
          <a:solidFill>
            <a:srgbClr val="cce0ff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истематизацио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классификация, распределение информации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29</cp:lastModifiedBy>
  <cp:lastPrinted>2013-04-28T11:35:22Z</cp:lastPrinted>
  <dcterms:modified xsi:type="dcterms:W3CDTF">2014-11-17T10:42:26Z</dcterms:modified>
  <cp:revision>65</cp:revision>
  <dc:subject/>
  <dc:title>Современные образовательные технологии</dc:title>
</cp:coreProperties>
</file>