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68834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6883200" cy="97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2960" cy="485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13"/>
          </p:nvPr>
        </p:nvSpPr>
        <p:spPr>
          <a:xfrm>
            <a:off x="3897360" y="-360"/>
            <a:ext cx="2982960" cy="485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Img"/>
          </p:nvPr>
        </p:nvSpPr>
        <p:spPr>
          <a:xfrm>
            <a:off x="1014120" y="728640"/>
            <a:ext cx="4854600" cy="364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4"/>
          </p:nvPr>
        </p:nvSpPr>
        <p:spPr>
          <a:xfrm>
            <a:off x="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 type="sldNum" idx="15"/>
          </p:nvPr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17507-850B-4260-BA94-0C5F1E03FBF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7BBDB-7391-4421-AB90-494849987AD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202DC-F752-427E-9757-D23CBC04168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BE7A7-FC0D-45C7-A580-2E5DF5F105C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082A2-DDC7-41F6-A411-A32A85EE6C4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7192A-CA84-452B-A128-1CF97B475C9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D3363-E9EA-46F9-B133-E54C55DFC48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219F1-3B82-4A61-8B49-27C187E4547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5AF97-68BD-46A1-B79B-0911ADC7819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8144E-E320-437A-B59B-9068E50F66C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0C686-4592-4E55-ABDF-21E3B389466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5565B-4B39-4E66-AA45-F082C6E6A97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B1983-355D-4E41-83AC-F2CFC729F50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CA9B-15CA-4CF1-AFC9-FD233E585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0FA9-5AE0-4251-97A4-137776C0A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E7B6-0009-43AD-9E41-06F9DEE1B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03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87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03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87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B9E0-5697-47A5-AD72-AD1D1B705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61AD5-02DB-4089-AED7-040872929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4B99A-FB4D-498B-AB63-07DEAF0DA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C13B5-A39B-4E67-B9BF-F80DBC870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1C175-8128-42D7-9EBE-0D12CB619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E4335-F5C5-4A7C-880C-12A46415C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0160" y="380520"/>
            <a:ext cx="685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C49DE-A8A0-4B9C-97E5-A2CE5EAFF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4F9F9-B1EE-4C8F-93FF-7C73A199A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599E-6712-4CA3-A57E-6E80C5613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22813-AA4A-4724-8DE2-378F62C6B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1C853-6261-4952-BB1A-D17072C21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B9F1A-E426-4611-AEDD-5B8033C84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3C3D4-0C39-4382-9855-6A843B373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03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87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03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87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27F0D-5F25-41A9-8F36-B12351CBE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473A9-C7AE-4083-A79F-E25D3B4CB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A1303-9564-4786-991F-8B93EF9A7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2AA90-2FC0-46F6-92B9-66D1DE3F5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1E6EC-FA55-49AD-AD3E-5D0526AB7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69BB3-9943-4450-A24C-B23FCF9BB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0175-7D5D-4291-BFA4-297FAF096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370160" y="380520"/>
            <a:ext cx="685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3F621-FD4B-4F9D-BE25-3F6F74ABF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AA29B-94A2-4DE7-A2BD-497049A12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206A5-1C25-4195-AECC-6F17FA327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8C296-903C-4CCE-80B0-E91658A47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2AEAE-D5D2-48D5-A1CA-7B9CD10FE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D27FC-F9C1-4361-B099-99118EF28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6903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087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37160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6903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087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7F875-6E4F-462D-8D8B-3D844E087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19AB6-0CAF-4659-A78F-7ED27AF90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BA746-DC81-4CAD-A2F7-EA26BA71E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42BF3-04DD-4870-9D02-C488DBF25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49A6-DD1F-47D0-96F7-767A8FCBE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67238-5094-4634-8022-57BAF8E6B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18CC2-7E4E-46C7-8325-B350AEE36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370160" y="380520"/>
            <a:ext cx="685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44B4F-3DE2-4525-9D32-62CF01EBE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0BFDF-110A-4AB3-93AD-F26C760C9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2F3C1-A141-4F1E-9A5B-320EB353D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837FF-C7C1-406A-9CE1-EBCEC719D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92EEA-E576-44A8-9631-202C2F855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5161C-9C78-4C55-863D-4C2A302E0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6903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087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37160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6903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087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F2F5F-A67C-477C-8686-5F213BE16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6609-FBE5-4DDF-9F94-3029DBF21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0160" y="380520"/>
            <a:ext cx="685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2754-37E8-4FD0-8AB6-3AB33EC54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47DE-116D-4163-803B-CDA0DE3C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F0E6-CEFE-4CD5-A4AF-4F27CD1C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FB08-33AB-4137-9B13-C777FD94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4aed2"/>
            </a:gs>
            <a:gs pos="100000">
              <a:srgbClr val="ebfa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1205000.png"/>
          <p:cNvPicPr/>
          <p:nvPr/>
        </p:nvPicPr>
        <p:blipFill>
          <a:blip r:embed="rId2"/>
          <a:stretch/>
        </p:blipFill>
        <p:spPr>
          <a:xfrm>
            <a:off x="0" y="0"/>
            <a:ext cx="1728720" cy="16574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e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4e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4e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4e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4e6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BAEAB-11C3-4722-AC70-9CC85DE4C2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228600" y="63262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285640" y="6324480"/>
            <a:ext cx="289548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5410080" y="63244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D46D5-C1C9-4BC8-85AC-4BCD679684DC}" type="slidenum">
              <a:rPr b="1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9ed0"/>
            </a:gs>
            <a:gs pos="100000">
              <a:srgbClr val="ebfa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6" descr="1205000.png"/>
          <p:cNvPicPr/>
          <p:nvPr/>
        </p:nvPicPr>
        <p:blipFill>
          <a:blip r:embed="rId2"/>
          <a:stretch/>
        </p:blipFill>
        <p:spPr>
          <a:xfrm>
            <a:off x="0" y="0"/>
            <a:ext cx="1728720" cy="16574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e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4e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4e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4e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4e6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BB816-2287-4518-A0D8-00479C1212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e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4e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4e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4e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4e6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03E11-17A1-4E48-89E6-F0C1EF7E33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8920" y="404280"/>
            <a:ext cx="8278920" cy="39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Мастер – класс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Использование приемов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                критического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ышления на уроках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           в начальных классах»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78920" y="4797000"/>
            <a:ext cx="8425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начальных классов КГ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Корнеевская средняя школа» Макухина Ю.В.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C:\Users\29\Desktop\Снимок.JPG"/>
          <p:cNvPicPr/>
          <p:nvPr/>
        </p:nvPicPr>
        <p:blipFill>
          <a:blip r:embed="rId1"/>
          <a:stretch/>
        </p:blipFill>
        <p:spPr>
          <a:xfrm>
            <a:off x="5778360" y="1554120"/>
            <a:ext cx="2786040" cy="60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5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екомендуемые приёмы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 стадии осмысле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186920" y="1125360"/>
            <a:ext cx="6697800" cy="573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ем «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Инсерт»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пометки на поля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тение с останов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ем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«Тонкие и толстые вопрос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ем «Мозговой штурм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ем «Фишбоун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ем «Взаимоопрос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ем «Горячий стул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71640" y="0"/>
            <a:ext cx="7378560" cy="50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Приём «Инсерт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475920"/>
            <a:ext cx="8964720" cy="638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Этапы рабо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. Каждому ученику выдается текст и  табл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. Прочитывание и осмысление текста с последующими пометками на полях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«+» - если считают, что это им известн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«-» - если считают, что это противоречит тем знаниям, которые у них е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«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» - если то, что прочитали, является новы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«?» - если то, что прочитали, оказалось непонятным и требует разъяснений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4. Систематизация текс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5. Заполнение таблицы в виде сжатой информации (это может быть слово, фраза, понятие и т.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6. Обсуждение в группах по заданной те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7. Затем идет межгрупповое обсуждение  каждого столб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136000" cy="74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ставляется индивидуально по результатам работы с текстом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826920" y="2205000"/>
          <a:ext cx="7561440" cy="2087640"/>
        </p:xfrm>
        <a:graphic>
          <a:graphicData uri="http://schemas.openxmlformats.org/drawingml/2006/table">
            <a:tbl>
              <a:tblPr/>
              <a:tblGrid>
                <a:gridCol w="1890720"/>
                <a:gridCol w="1890720"/>
                <a:gridCol w="1889280"/>
                <a:gridCol w="1890720"/>
              </a:tblGrid>
              <a:tr h="135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Зна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«+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cfd3e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Хочу узн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«-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cfd3e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Узнал нов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«</a:t>
                      </a:r>
                      <a:r>
                        <a:rPr b="0" i="1" lang="en-US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V</a:t>
                      </a:r>
                      <a:r>
                        <a:rPr b="0" i="1" lang="ru-RU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cfd3e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Вопрос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«?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cfd3e4"/>
                    </a:solidFill>
                  </a:tcPr>
                </a:tc>
              </a:tr>
              <a:tr h="73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solidFill>
                      <a:srgbClr val="cce0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solidFill>
                      <a:srgbClr val="cce0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solidFill>
                      <a:srgbClr val="cce0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solidFill>
                      <a:srgbClr val="cce0ff"/>
                    </a:solidFill>
                  </a:tcPr>
                </a:tc>
              </a:tr>
            </a:tbl>
          </a:graphicData>
        </a:graphic>
      </p:graphicFrame>
      <p:sp>
        <p:nvSpPr>
          <p:cNvPr id="201" name="Rectangle 30"/>
          <p:cNvSpPr/>
          <p:nvPr/>
        </p:nvSpPr>
        <p:spPr>
          <a:xfrm>
            <a:off x="468360" y="4508640"/>
            <a:ext cx="813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атериал обсуждается в парах и сообщается учителю, который её фиксирует. Обсуждение позволяет систематизировать информацию и выделить главные вопрос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77440" cy="6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иём «Таблица аргументов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71280" y="1052640"/>
            <a:ext cx="7272360" cy="129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читель даёт аргументы. Учащиеся должны их опровергнуть или подтвердить фактами имеющихся знаний по данной те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55640" y="3357720"/>
          <a:ext cx="7800840" cy="1676160"/>
        </p:xfrm>
        <a:graphic>
          <a:graphicData uri="http://schemas.openxmlformats.org/drawingml/2006/table">
            <a:tbl>
              <a:tblPr/>
              <a:tblGrid>
                <a:gridCol w="2600280"/>
                <a:gridCol w="2600280"/>
                <a:gridCol w="2600280"/>
              </a:tblGrid>
              <a:tr h="168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ргуме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меля в сказке «По щучьему велению» был лентя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solidFill>
                      <a:srgbClr val="cfd3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чему «да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solidFill>
                      <a:srgbClr val="cfd3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чему «нет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solidFill>
                      <a:srgbClr val="cfd3e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Приём «Тонкие и толстые вопросы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07280" cy="51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ahoma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684360" y="836640"/>
          <a:ext cx="7921440" cy="5113440"/>
        </p:xfrm>
        <a:graphic>
          <a:graphicData uri="http://schemas.openxmlformats.org/drawingml/2006/table">
            <a:tbl>
              <a:tblPr/>
              <a:tblGrid>
                <a:gridCol w="3960720"/>
                <a:gridCol w="3960720"/>
              </a:tblGrid>
              <a:tr h="592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онкие вопросы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олстые вопросы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4521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кто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что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когда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может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будет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мог ли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как звали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было ли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согласны ли вы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верно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дайте объяснение, почему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почему вы думаете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почему вы считаете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в чем разница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предположите, что будет, если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что, если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1246320" y="213840"/>
            <a:ext cx="6867360" cy="636840"/>
          </a:xfrm>
          <a:prstGeom prst="rect">
            <a:avLst/>
          </a:prstGeom>
          <a:solidFill>
            <a:srgbClr val="cfd3e4"/>
          </a:solidFill>
          <a:ln w="28440">
            <a:solidFill>
              <a:srgbClr val="336699"/>
            </a:solidFill>
            <a:miter/>
          </a:ln>
        </p:spPr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ункции стадии рефлекси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6"/>
          <p:cNvSpPr/>
          <p:nvPr/>
        </p:nvSpPr>
        <p:spPr>
          <a:xfrm>
            <a:off x="971640" y="2997360"/>
            <a:ext cx="7272360" cy="1079280"/>
          </a:xfrm>
          <a:prstGeom prst="flowChartAlternateProcess">
            <a:avLst/>
          </a:prstGeom>
          <a:solidFill>
            <a:srgbClr val="cce0ff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Мотивацио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побуждение к дальнейшему расширени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нформационного пол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7"/>
          <p:cNvSpPr/>
          <p:nvPr/>
        </p:nvSpPr>
        <p:spPr>
          <a:xfrm>
            <a:off x="1042920" y="5589720"/>
            <a:ext cx="7129440" cy="863640"/>
          </a:xfrm>
          <a:prstGeom prst="flowChartAlternateProcess">
            <a:avLst/>
          </a:prstGeom>
          <a:solidFill>
            <a:srgbClr val="cce0ff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Оценоч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выработка собственной позиц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8"/>
          <p:cNvSpPr/>
          <p:nvPr/>
        </p:nvSpPr>
        <p:spPr>
          <a:xfrm>
            <a:off x="1042920" y="4437000"/>
            <a:ext cx="7129440" cy="863640"/>
          </a:xfrm>
          <a:prstGeom prst="flowChartAlternateProcess">
            <a:avLst/>
          </a:prstGeom>
          <a:solidFill>
            <a:srgbClr val="cce0ff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Информацио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приобретение новых знан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9"/>
          <p:cNvSpPr/>
          <p:nvPr/>
        </p:nvSpPr>
        <p:spPr>
          <a:xfrm>
            <a:off x="971640" y="1700280"/>
            <a:ext cx="7129440" cy="863640"/>
          </a:xfrm>
          <a:prstGeom prst="flowChartAlternateProcess">
            <a:avLst/>
          </a:prstGeom>
          <a:solidFill>
            <a:srgbClr val="cce0ff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Коммуникацио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обмен мнениями о новой информац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86920" y="-360"/>
            <a:ext cx="6859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екомендуемые приёмы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 стадии рефлекси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4360" y="1676160"/>
            <a:ext cx="7920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ём «Перепутанные логические цепочк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то нового вы узнали на урок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писание синквей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ём «Написание ЭСС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риём «Кластер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ем «Горячий стул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76360" y="-360"/>
            <a:ext cx="6394320" cy="81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иём «Кластер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104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спользуется как средство для подведения итого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4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к стимул для возникновения новых ассоциац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4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 графических изображений новых зн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407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Этапы рабо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4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1. Выписывается ключевое слов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4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2. Записываются слова и предложения по тем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4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3. Происходит разделение материала на отдельные бло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4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4. Устанавливаются и выражаются графически логические связи между бло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407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86920" y="-360"/>
            <a:ext cx="6859800" cy="39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Создание группового кластера со словом учитель. Защита кластера группами.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250560" y="907920"/>
            <a:ext cx="797868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13744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иём «Перепутанные логические цепочки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85840" y="1125360"/>
            <a:ext cx="8572320" cy="481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Этапы рабо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1. На доске или карточках написаны термины (последовательность терминов), некоторые из них с ошибка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2. Группам предлагается исправить ошибки или восстановить порядок запис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ули Программы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1676160"/>
            <a:ext cx="8136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вые подходы в преподавании и обучен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учение критическому мышлен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ценивание для обучения и оценивание обуч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ИКТ в преподавании и обучен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учение талантливых и одаренных учени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подавание и обучение в соответствии с ВО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ение и лидерство в обуч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31640" y="0"/>
            <a:ext cx="6465960" cy="6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иём «Синквейн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79280" y="764640"/>
            <a:ext cx="8964720" cy="609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Синквейн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– это стихотворение, которое требует синтеза информации и материала в кратких выражени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Правила напис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ервая строчка – название темы в одном слове (существительно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торая строчка – описание темы в двух словах (прилагательные или причаст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ретья строчка – описание действия в трёх словах(глаголы или деепричаст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етвёртая строчка – это фраза их четырёх слов, показывающая отношение к те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иноним из одного слова, который повторяет суть т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70160" y="380880"/>
            <a:ext cx="6859440" cy="268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актическое задание: составление синквейна к словам мышление, обучени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02920" y="404640"/>
            <a:ext cx="6859800" cy="266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актик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ием «Горячий стул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640720" cy="180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пользование на уроках приемов критического мышления дает ученику: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82803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757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75728"/>
                </a:solidFill>
                <a:latin typeface="Tahoma"/>
              </a:rPr>
              <a:t>- повышение эффективности восприятия информации;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- повышение интереса как к изучаемому материалу, так и к самому процессу обучения;</a:t>
            </a:r>
            <a:br>
              <a:rPr sz="2400"/>
            </a:br>
            <a:r>
              <a:rPr b="1" lang="ru-RU" sz="2400" spc="-1" strike="noStrike">
                <a:solidFill>
                  <a:srgbClr val="275728"/>
                </a:solidFill>
                <a:latin typeface="Tahoma"/>
              </a:rPr>
              <a:t>- умение критически мыслить;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Tahoma"/>
              </a:rPr>
              <a:t>- </a:t>
            </a:r>
            <a:r>
              <a:rPr b="1" lang="ru-RU" sz="2400" spc="-1" strike="noStrike">
                <a:solidFill>
                  <a:srgbClr val="00337f"/>
                </a:solidFill>
                <a:latin typeface="Tahoma"/>
              </a:rPr>
              <a:t>умение ответственно относиться к собственному образованию;</a:t>
            </a:r>
            <a:br>
              <a:rPr sz="2400"/>
            </a:br>
            <a:r>
              <a:rPr b="1" lang="ru-RU" sz="2400" spc="-1" strike="noStrike">
                <a:solidFill>
                  <a:srgbClr val="275728"/>
                </a:solidFill>
                <a:latin typeface="Tahoma"/>
              </a:rPr>
              <a:t>- умение работать в сотрудничестве с другими;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- повышение качества образования учеников;</a:t>
            </a:r>
            <a:br>
              <a:rPr sz="2400"/>
            </a:br>
            <a:r>
              <a:rPr b="1" lang="ru-RU" sz="2400" spc="-1" strike="noStrike">
                <a:solidFill>
                  <a:srgbClr val="275728"/>
                </a:solidFill>
                <a:latin typeface="Tahoma"/>
              </a:rPr>
              <a:t>- желание и умение стать человеком, который учится в течение всей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000" y="380520"/>
            <a:ext cx="8280360" cy="153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пользование на уроках приемов критического мышления дает учителю: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7905600" cy="47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2400" spc="-1" strike="noStrike">
                <a:solidFill>
                  <a:srgbClr val="275728"/>
                </a:solidFill>
                <a:latin typeface="Tahoma"/>
              </a:rPr>
              <a:t>- умение создать в классе атмосферу открытости и ответственного сотрудничества;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- возможность использовать модель обучения и систему эффективных методик, которые способствуют развитию критического мышления и самостоятельности в процессе обучения;</a:t>
            </a:r>
            <a:br>
              <a:rPr sz="2400"/>
            </a:br>
            <a:r>
              <a:rPr b="1" lang="ru-RU" sz="2400" spc="-1" strike="noStrike">
                <a:solidFill>
                  <a:srgbClr val="275728"/>
                </a:solidFill>
                <a:latin typeface="Tahoma"/>
              </a:rPr>
              <a:t>- стать практиками, которые умеют грамотно анализировать свою деятельность;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- стать источником ценной профессиональной информации для других учителей.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99640" y="-360"/>
            <a:ext cx="7417080" cy="126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ефлексия «Пожелание»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395280" y="620280"/>
            <a:ext cx="8137440" cy="467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аю вам цвести, раст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пить, крепить здоровь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о для дальнего пути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ейшее услов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каждый день и каждый ч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м новой добуд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добрым будет ум у ва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сердце будет ум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м от души желаю 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зья, всего хорош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се хорошее, друзь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ется нам недеше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              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Марш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376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Удачи Вам во всем,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дорогие коллеги!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Спасибо за внимание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71280" y="3805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Модуль «Обучение критическому мышлению»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460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Цель данно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о Модуля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- развитие мыслительных навыков учащихся, необходимых не только в учёбе, но и в обычной жизни.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анный Модуль представляет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 собой совокупность разнообразных приёмов, направленных на то, чтобы сначала заинтересовать ученика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Данный Модуль-это целостная система, </a:t>
            </a:r>
            <a:r>
              <a:rPr b="1" i="1" lang="ru-RU" sz="2400" spc="-1" strike="noStrike">
                <a:solidFill>
                  <a:srgbClr val="0000ff"/>
                </a:solidFill>
                <a:latin typeface="Tahoma"/>
              </a:rPr>
              <a:t>которая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Tahoma"/>
              </a:rPr>
              <a:t>развивает продуктивное творческое мышление, формирует интеллектуальные умения, навыки работы с информацией,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Tahoma"/>
              </a:rPr>
              <a:t>учит учи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428760" y="2357280"/>
          <a:ext cx="8143920" cy="3286440"/>
        </p:xfrm>
        <a:graphic>
          <a:graphicData uri="http://schemas.openxmlformats.org/drawingml/2006/table">
            <a:tbl>
              <a:tblPr/>
              <a:tblGrid>
                <a:gridCol w="2714400"/>
                <a:gridCol w="2716200"/>
                <a:gridCol w="2713320"/>
              </a:tblGrid>
              <a:tr h="16243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тадия вызо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cfd3e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тадия осмысл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cfd3e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тадия рефлекс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cfd3e4"/>
                    </a:solidFill>
                  </a:tcPr>
                </a:tc>
              </a:tr>
              <a:tr h="16621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раткое обобщение имеющихся зн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solidFill>
                      <a:srgbClr val="cce0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думчивая работа с новыми понятия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solidFill>
                      <a:srgbClr val="cce0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нтеграция новых и имеющихся зн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solidFill>
                      <a:srgbClr val="cce0ff"/>
                    </a:solidFill>
                  </a:tcPr>
                </a:tc>
              </a:tr>
            </a:tbl>
          </a:graphicData>
        </a:graphic>
      </p:graphicFrame>
      <p:sp>
        <p:nvSpPr>
          <p:cNvPr id="181" name="Прямоугольник 11"/>
          <p:cNvSpPr/>
          <p:nvPr/>
        </p:nvSpPr>
        <p:spPr>
          <a:xfrm>
            <a:off x="1143000" y="357120"/>
            <a:ext cx="6929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Стади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работы по Модулю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«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бучение критическому мышлению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1918440" y="578520"/>
            <a:ext cx="5666760" cy="733680"/>
          </a:xfrm>
          <a:prstGeom prst="rect">
            <a:avLst/>
          </a:prstGeom>
          <a:solidFill>
            <a:srgbClr val="cfd3e4"/>
          </a:solidFill>
          <a:ln w="28440">
            <a:solidFill>
              <a:srgbClr val="336699"/>
            </a:solidFill>
            <a:miter/>
          </a:ln>
        </p:spPr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ункции стадии вызов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6"/>
          <p:cNvSpPr/>
          <p:nvPr/>
        </p:nvSpPr>
        <p:spPr>
          <a:xfrm>
            <a:off x="971640" y="1916280"/>
            <a:ext cx="7272360" cy="863280"/>
          </a:xfrm>
          <a:prstGeom prst="flowChartAlternateProcess">
            <a:avLst/>
          </a:prstGeom>
          <a:solidFill>
            <a:srgbClr val="cce0ff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Мотивацио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пробуждение интереса и побуждение к работ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7"/>
          <p:cNvSpPr/>
          <p:nvPr/>
        </p:nvSpPr>
        <p:spPr>
          <a:xfrm>
            <a:off x="1042920" y="3573360"/>
            <a:ext cx="7201080" cy="1079640"/>
          </a:xfrm>
          <a:prstGeom prst="flowChartAlternateProcess">
            <a:avLst/>
          </a:prstGeom>
          <a:solidFill>
            <a:srgbClr val="cce0ff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Информацио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актуализация (вызов «на поверхность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же имеющихся знан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8"/>
          <p:cNvSpPr/>
          <p:nvPr/>
        </p:nvSpPr>
        <p:spPr>
          <a:xfrm>
            <a:off x="1042920" y="5300640"/>
            <a:ext cx="7201080" cy="1008000"/>
          </a:xfrm>
          <a:prstGeom prst="flowChartAlternateProcess">
            <a:avLst/>
          </a:prstGeom>
          <a:solidFill>
            <a:srgbClr val="cce0ff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Коммуникацио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бесконфликтный обмен мнениям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9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Рекомендуемые приёмы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на стадии вызов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826920" y="1267920"/>
            <a:ext cx="7632720" cy="55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ем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«Корзина ид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ем «Вы согласны с этим высказыванием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ем «Как бы вы прокомментировали эпиграф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ем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«Верите ли вы, что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ем «З-Х-У» («знаю-хочу узнать-узнал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16000" y="189000"/>
            <a:ext cx="685944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ием «Верите ли вы, что…»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68000" y="1125360"/>
            <a:ext cx="8280360" cy="460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 Верите ли вы, что по окончанию семинара, вы что-нибудь возьмёте для своей педагогической копил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 Верите ли вы, что устанете сегодня на семинар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 Верите ли вы, что можно детей научить учить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58920" y="115560"/>
            <a:ext cx="6859440" cy="68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иём «Корзина идей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39640" y="980640"/>
            <a:ext cx="777744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то такое критическое мышление в вашем пониман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1111680" y="502920"/>
            <a:ext cx="7135560" cy="667440"/>
          </a:xfrm>
          <a:prstGeom prst="rect">
            <a:avLst/>
          </a:prstGeom>
          <a:solidFill>
            <a:srgbClr val="cfd3e4"/>
          </a:solidFill>
          <a:ln w="28440">
            <a:solidFill>
              <a:srgbClr val="336699"/>
            </a:solidFill>
            <a:miter/>
          </a:ln>
        </p:spPr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ункции стадии осмыслени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6"/>
          <p:cNvSpPr/>
          <p:nvPr/>
        </p:nvSpPr>
        <p:spPr>
          <a:xfrm>
            <a:off x="1042920" y="2060640"/>
            <a:ext cx="7272360" cy="863640"/>
          </a:xfrm>
          <a:prstGeom prst="flowChartAlternateProcess">
            <a:avLst/>
          </a:prstGeom>
          <a:solidFill>
            <a:srgbClr val="cce0ff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Информацио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получение новой информац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7"/>
          <p:cNvSpPr/>
          <p:nvPr/>
        </p:nvSpPr>
        <p:spPr>
          <a:xfrm>
            <a:off x="1116000" y="3933720"/>
            <a:ext cx="7201080" cy="863640"/>
          </a:xfrm>
          <a:prstGeom prst="flowChartAlternateProcess">
            <a:avLst/>
          </a:prstGeom>
          <a:solidFill>
            <a:srgbClr val="cce0ff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Систематизацио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классификация, распределение информации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29</cp:lastModifiedBy>
  <cp:lastPrinted>2013-04-28T11:35:22Z</cp:lastPrinted>
  <dcterms:modified xsi:type="dcterms:W3CDTF">2014-11-17T10:42:26Z</dcterms:modified>
  <cp:revision>65</cp:revision>
  <dc:subject/>
  <dc:title>Современные образовательные технологии</dc:title>
</cp:coreProperties>
</file>