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3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5516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38240" y="685440"/>
            <a:ext cx="4781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0848-D600-446C-92CE-4FDB1F6014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C72C-0761-4AA9-8AB9-FDD61312E0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038240" y="685800"/>
            <a:ext cx="478152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ачала выходит понятие - правило, а затем по щелчку два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2AC3-1BEE-4D95-ABA6-7F472C1402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38240" y="685800"/>
            <a:ext cx="478152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тинка - двое человек между ними какая - нибудь слад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F03D-0F7C-487B-ACD9-B8C5614E6C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38240" y="685800"/>
            <a:ext cx="478152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е мультфильма если можно скач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8576-7908-4AAA-9739-7383FE82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EAF-CE2A-42B4-B7CE-DD439F45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ABB7-FF7F-416E-B9D8-7A0613C4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56F-9555-458E-8371-5EB47FD7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9BA9-4E9E-40D9-A4FA-8C26FF08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7CCF-412C-43BD-8429-13E54131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41EF-D252-4777-A469-3FA6FE54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C094-ACAF-4FFA-B4E9-66E3876B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21BE-CADE-4687-A70F-0F07A5DF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82160"/>
            <a:ext cx="701064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B62F-A0F5-410C-A4B9-9388D3A2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C920-9E78-4824-B207-9E3AD529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A9F4-2C7A-4FEA-9220-A3D22820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B7F9-52B4-4F71-892E-2AE860B0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54DB-80A7-4212-B3BA-2389FAC8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2123-0D35-4938-9833-16CFA41E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C87F-9020-408C-97CD-EA18B1EF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ECC0-B002-47CE-B7A9-03F8098C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D833-73E3-4C24-B7B4-048194AC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3904-8046-4193-AB95-4736CE46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C445-B673-4BB2-AA89-5E1CDA47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82160"/>
            <a:ext cx="701064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058-FC29-4C91-81A1-7E0DF292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2818-44EE-4C1F-9F41-BAA92BEF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E3FB-D3DB-425D-A30C-1A91F8A8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D4B-A432-4B4C-93F8-984905E1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5970240"/>
            <a:ext cx="19051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5970240"/>
            <a:ext cx="28954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5970240"/>
            <a:ext cx="12956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7DC1-5F09-4354-BFD0-34BB26089F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290520"/>
            <a:ext cx="0" cy="123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01720"/>
            <a:ext cx="228600" cy="217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01720"/>
            <a:ext cx="228600" cy="21744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01720"/>
            <a:ext cx="228600" cy="21744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165320"/>
            <a:ext cx="0" cy="19652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009880"/>
            <a:ext cx="347760" cy="331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011320"/>
            <a:ext cx="349200" cy="331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011320"/>
            <a:ext cx="347760" cy="33192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5970240"/>
            <a:ext cx="15238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5970240"/>
            <a:ext cx="28958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5970240"/>
            <a:ext cx="12193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A926-17E8-417E-857E-33C8D8E4D1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360" y="1116000"/>
            <a:ext cx="7056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800000"/>
                </a:solidFill>
                <a:latin typeface="Stylo"/>
              </a:rPr>
              <a:t>Час нравственности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40000" y="2124000"/>
            <a:ext cx="6477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Тема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«</a:t>
            </a: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Учимся договариваться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и уступать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155614_image_large"/>
          <p:cNvPicPr/>
          <p:nvPr/>
        </p:nvPicPr>
        <p:blipFill>
          <a:blip r:embed="rId2"/>
          <a:stretch/>
        </p:blipFill>
        <p:spPr>
          <a:xfrm>
            <a:off x="4067280" y="3781440"/>
            <a:ext cx="2952720" cy="261936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cc99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6200" y="36000"/>
            <a:ext cx="561816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Круг</a:t>
            </a:r>
            <a:br>
              <a:rPr sz="4000"/>
            </a:b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«От сердца к серд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771280" y="1476360"/>
            <a:ext cx="5256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друг не смеётся – ты включи ему солнц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ы включи ему звёзды – это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ы исправь ошибку, превращаем в улыб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Все грустинки и слёзы – это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Воскресенье, суббота: дружба –это не раб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ть друзья, а для них у друзей нет выход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свалится счастье – подели его на ч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И раздай всем друзьям – это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А когда будет надо, все друзья будут ряд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Чтоб включить тебе солнце и звёз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каждый друг по кругу протянет руку друг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о будет видно в иллюминатор дружба – это экват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каждый друг планеты другу ромашкою помаш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о станет ясно дружба – это планета ромаш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3795476"/>
          <p:cNvPicPr/>
          <p:nvPr/>
        </p:nvPicPr>
        <p:blipFill>
          <a:blip r:embed="rId2"/>
          <a:stretch/>
        </p:blipFill>
        <p:spPr>
          <a:xfrm>
            <a:off x="7093080" y="2124000"/>
            <a:ext cx="20206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52360"/>
            <a:ext cx="59054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Stylo"/>
              </a:rPr>
              <a:t>Круг радости. Мы - 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276360" y="830160"/>
            <a:ext cx="4392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а огромном белом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Очень разные есть де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Тихие и шум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кромные и ум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Есть худые, есть толст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олчуны и хохот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ростом невел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сильный уче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 одних – большие 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 других – кругом весн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рыж, а кто-то б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в играх неум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и над кем нельзя смея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икого нельзя дразн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ужно очень постара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ловно братьев всех люб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И тогда на белом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Так чудесно будет 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Т. Дашкеви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80BA6F60E958[1]"/>
          <p:cNvPicPr/>
          <p:nvPr/>
        </p:nvPicPr>
        <p:blipFill>
          <a:blip r:embed="rId2"/>
          <a:srcRect l="13359" t="0" r="12990" b="0"/>
          <a:stretch/>
        </p:blipFill>
        <p:spPr>
          <a:xfrm>
            <a:off x="7380360" y="1189080"/>
            <a:ext cx="1584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14560" y="326520"/>
            <a:ext cx="6050160" cy="86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Разминка «Веревоч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images"/>
          <p:cNvPicPr/>
          <p:nvPr/>
        </p:nvPicPr>
        <p:blipFill>
          <a:blip r:embed="rId2"/>
          <a:stretch/>
        </p:blipFill>
        <p:spPr>
          <a:xfrm>
            <a:off x="2916360" y="1405080"/>
            <a:ext cx="2944800" cy="213012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</p:pic>
      <p:pic>
        <p:nvPicPr>
          <p:cNvPr id="105" name="Picture 5" descr="161907596f39cfb20c246794a4be9a1c"/>
          <p:cNvPicPr/>
          <p:nvPr/>
        </p:nvPicPr>
        <p:blipFill>
          <a:blip r:embed="rId3"/>
          <a:stretch/>
        </p:blipFill>
        <p:spPr>
          <a:xfrm>
            <a:off x="6156360" y="1620720"/>
            <a:ext cx="2793960" cy="209880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</p:pic>
      <p:pic>
        <p:nvPicPr>
          <p:cNvPr id="106" name="Picture 6" descr="0_24ebb_4706e677_L"/>
          <p:cNvPicPr/>
          <p:nvPr/>
        </p:nvPicPr>
        <p:blipFill>
          <a:blip r:embed="rId4"/>
          <a:stretch/>
        </p:blipFill>
        <p:spPr>
          <a:xfrm>
            <a:off x="3708360" y="3902040"/>
            <a:ext cx="3533760" cy="235440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87280" y="182520"/>
            <a:ext cx="525780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Stylo"/>
              </a:rPr>
              <a:t>Мы – это я и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4356000" y="2933640"/>
            <a:ext cx="2016360" cy="1224000"/>
          </a:xfrm>
          <a:prstGeom prst="verticalScroll">
            <a:avLst>
              <a:gd name="adj" fmla="val 25000"/>
            </a:avLst>
          </a:prstGeom>
          <a:gradFill rotWithShape="0">
            <a:gsLst>
              <a:gs pos="0">
                <a:srgbClr val="4d0808"/>
              </a:gs>
              <a:gs pos="100000">
                <a:srgbClr val="4d0808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2949480" y="1387440"/>
            <a:ext cx="1871640" cy="9144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й д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979640" y="3083040"/>
            <a:ext cx="201600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и 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6689880" y="3094200"/>
            <a:ext cx="2376360" cy="9144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ё живо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2914560" y="4716360"/>
            <a:ext cx="2089080" cy="7207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й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833080" y="4775760"/>
            <a:ext cx="2045880" cy="695160"/>
          </a:xfrm>
          <a:prstGeom prst="rect">
            <a:avLst/>
          </a:prstGeom>
          <a:blipFill rotWithShape="0">
            <a:blip r:embed="rId6"/>
            <a:stretch/>
          </a:blipFill>
          <a:ln w="57240">
            <a:solidFill>
              <a:srgbClr val="800000"/>
            </a:solidFill>
            <a:round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Я и все, кто бы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на остано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5"/>
          <p:cNvSpPr/>
          <p:nvPr/>
        </p:nvSpPr>
        <p:spPr>
          <a:xfrm>
            <a:off x="5796000" y="1405080"/>
            <a:ext cx="2087640" cy="91440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й брат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AutoShape 25"/>
          <p:cNvCxnSpPr>
            <a:stCxn id="108" idx="0"/>
            <a:endCxn id="109" idx="2"/>
          </p:cNvCxnSpPr>
          <p:nvPr/>
        </p:nvCxnSpPr>
        <p:spPr>
          <a:xfrm flipH="1" flipV="1">
            <a:off x="3885480" y="2329920"/>
            <a:ext cx="1478520" cy="59472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6" name="AutoShape 26"/>
          <p:cNvCxnSpPr>
            <a:stCxn id="108" idx="0"/>
            <a:endCxn id="114" idx="2"/>
          </p:cNvCxnSpPr>
          <p:nvPr/>
        </p:nvCxnSpPr>
        <p:spPr>
          <a:xfrm flipV="1">
            <a:off x="5363640" y="2347200"/>
            <a:ext cx="1477080" cy="5770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7" name="AutoShape 27"/>
          <p:cNvCxnSpPr>
            <a:stCxn id="108" idx="1"/>
            <a:endCxn id="110" idx="3"/>
          </p:cNvCxnSpPr>
          <p:nvPr/>
        </p:nvCxnSpPr>
        <p:spPr>
          <a:xfrm flipH="1" flipV="1">
            <a:off x="4024080" y="3539520"/>
            <a:ext cx="629280" cy="684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8" name="AutoShape 28"/>
          <p:cNvCxnSpPr>
            <a:stCxn id="108" idx="3"/>
            <a:endCxn id="111" idx="1"/>
          </p:cNvCxnSpPr>
          <p:nvPr/>
        </p:nvCxnSpPr>
        <p:spPr>
          <a:xfrm>
            <a:off x="6075000" y="3546360"/>
            <a:ext cx="586440" cy="576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9" name="AutoShape 29"/>
          <p:cNvCxnSpPr>
            <a:stCxn id="108" idx="2"/>
            <a:endCxn id="112" idx="0"/>
          </p:cNvCxnSpPr>
          <p:nvPr/>
        </p:nvCxnSpPr>
        <p:spPr>
          <a:xfrm flipH="1">
            <a:off x="3958920" y="4167360"/>
            <a:ext cx="1405440" cy="5212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20" name="AutoShape 30"/>
          <p:cNvCxnSpPr>
            <a:stCxn id="108" idx="2"/>
            <a:endCxn id="113" idx="0"/>
          </p:cNvCxnSpPr>
          <p:nvPr/>
        </p:nvCxnSpPr>
        <p:spPr>
          <a:xfrm>
            <a:off x="5364000" y="4167360"/>
            <a:ext cx="1493280" cy="54360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51280" y="180720"/>
            <a:ext cx="461016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Нуж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87640" y="1405080"/>
            <a:ext cx="561672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Правило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постановление, предписание, устанавливающее порядок чего – нибуд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Договор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 соглашение, обычно письменное, о взаимных обязанностя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Соглашение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 взаимное согласие, договорённость. Договор, устанавливающий какие – нибудь условия, взаимоотношения, права и обязанности сторо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03280" y="182160"/>
            <a:ext cx="583236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Договариваемся в п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634920" y="5148000"/>
            <a:ext cx="405612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«Сладкая проблема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s7_560_05"/>
          <p:cNvPicPr/>
          <p:nvPr/>
        </p:nvPicPr>
        <p:blipFill>
          <a:blip r:embed="rId2"/>
          <a:stretch/>
        </p:blipFill>
        <p:spPr>
          <a:xfrm>
            <a:off x="3492360" y="1692360"/>
            <a:ext cx="395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16000" y="182160"/>
            <a:ext cx="622764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Договариваемся в групп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03280" y="1547640"/>
            <a:ext cx="554652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«Покажи предме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8028000" y="612720"/>
            <a:ext cx="1436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7"/>
          <p:cNvGrpSpPr/>
          <p:nvPr/>
        </p:nvGrpSpPr>
        <p:grpSpPr>
          <a:xfrm>
            <a:off x="4356000" y="3348000"/>
            <a:ext cx="2376720" cy="2665440"/>
            <a:chOff x="4356000" y="3348000"/>
            <a:chExt cx="2376720" cy="2665440"/>
          </a:xfrm>
        </p:grpSpPr>
        <p:sp>
          <p:nvSpPr>
            <p:cNvPr id="130" name="Oval 4"/>
            <p:cNvSpPr/>
            <p:nvPr/>
          </p:nvSpPr>
          <p:spPr>
            <a:xfrm>
              <a:off x="4356000" y="3348000"/>
              <a:ext cx="2376720" cy="26654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6"/>
            <p:cNvSpPr/>
            <p:nvPr/>
          </p:nvSpPr>
          <p:spPr>
            <a:xfrm>
              <a:off x="5003640" y="4068720"/>
              <a:ext cx="1150920" cy="1152720"/>
            </a:xfrm>
            <a:prstGeom prst="sun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AutoShape 6"/>
          <p:cNvSpPr/>
          <p:nvPr/>
        </p:nvSpPr>
        <p:spPr>
          <a:xfrm>
            <a:off x="4788000" y="2124000"/>
            <a:ext cx="1512720" cy="1441440"/>
          </a:xfrm>
          <a:prstGeom prst="smileyFace">
            <a:avLst>
              <a:gd name="adj" fmla="val 9282"/>
            </a:avLst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3708360" y="3348000"/>
            <a:ext cx="934920" cy="9367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6443640" y="3348000"/>
            <a:ext cx="936720" cy="93672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76720" y="468360"/>
            <a:ext cx="4751280" cy="14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Договариваемся все вме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63640" y="2340000"/>
            <a:ext cx="412740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«Счёт на пальц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f_4c6f93c9be689"/>
          <p:cNvPicPr/>
          <p:nvPr/>
        </p:nvPicPr>
        <p:blipFill>
          <a:blip r:embed="rId2"/>
          <a:srcRect l="14801" t="0" r="16484" b="0"/>
          <a:stretch/>
        </p:blipFill>
        <p:spPr>
          <a:xfrm>
            <a:off x="2771640" y="3162240"/>
            <a:ext cx="622800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182160"/>
            <a:ext cx="5905440" cy="145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Басня А.М. Крылова</a:t>
            </a:r>
            <a:br>
              <a:rPr sz="4000"/>
            </a:b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«Лебедь, рак и щу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Лебедь рак да щука.wmv" descr=""/>
          <p:cNvPicPr/>
          <p:nvPr/>
        </p:nvPicPr>
        <p:blipFill>
          <a:blip r:embed="rId2"/>
          <a:stretch/>
        </p:blipFill>
        <p:spPr>
          <a:xfrm>
            <a:off x="3203640" y="1584360"/>
            <a:ext cx="5329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712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1:34:48Z</dcterms:created>
  <dc:creator>Svetlana</dc:creator>
  <dc:description/>
  <dc:language>en-US</dc:language>
  <cp:lastModifiedBy>Admin</cp:lastModifiedBy>
  <dcterms:modified xsi:type="dcterms:W3CDTF">2012-12-06T04:16:11Z</dcterms:modified>
  <cp:revision>51</cp:revision>
  <dc:subject/>
  <dc:title>Мы - разные</dc:title>
</cp:coreProperties>
</file>