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38240" y="685440"/>
            <a:ext cx="4781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806-C5C8-4CB6-AEBE-2612A87E08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5D4-DDE5-4796-A43E-38DC167CE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ачала выходит понятие - правило, а затем по щелчку два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665-496F-412F-8B56-F80C5BBF2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инка - двое человек между ними какая - нибудь слад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D0F6-B075-48FB-9708-F9000B18A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38240" y="685800"/>
            <a:ext cx="478152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е мультфильма если можно скач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79A-A803-4965-BB89-9BCFAC67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79E-D65E-4934-BFB8-60C12CB7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462-6699-40EA-A646-4F07CB95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C0E-036A-408B-B90D-BF17116C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CCBB-A3A7-4E40-84C9-9D176292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31A-B811-486F-9288-973F23C9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D8DB-38D4-4C24-9437-AC174678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62E5-7D7C-4BD6-81E5-664106E8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7D2-6B04-4862-84EE-A1CB8E5D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F8C-7A77-4E90-A85C-0697E7CB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BE3D-7B38-4CF4-8C96-58B10F7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9B7-BEBC-4DBA-8266-590268E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36C-B9B5-4F9E-9067-AAF11EB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D6F-B972-4BE4-A339-C4EAB586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EC5-B22C-4801-946F-8779E4F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40CB-8221-409E-A9C3-020358B2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82088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3873960"/>
            <a:ext cx="22572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E447-C220-4369-AD6F-A844317D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42F-4F68-477A-B875-295B367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B12-B7A1-4C8A-B497-1DE3E22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27A-FB98-408B-9AEC-20D1082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82160"/>
            <a:ext cx="701064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E7E-1EC2-46C0-AD78-C2999BCE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E29-2E9B-4926-B9E4-A757E929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387396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05C-7595-459E-B00D-A048DFD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820880"/>
            <a:ext cx="342108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3873960"/>
            <a:ext cx="701064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923-EB19-4729-AFD3-FA7D8BF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5970240"/>
            <a:ext cx="19051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5970240"/>
            <a:ext cx="28954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5970240"/>
            <a:ext cx="12956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8694-1220-4D53-B586-22FC1F919B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29052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01720"/>
            <a:ext cx="228600" cy="21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01720"/>
            <a:ext cx="228600" cy="21744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01720"/>
            <a:ext cx="228600" cy="2174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165320"/>
            <a:ext cx="0" cy="1965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009880"/>
            <a:ext cx="347760" cy="33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011320"/>
            <a:ext cx="349200" cy="331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011320"/>
            <a:ext cx="347760" cy="33192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82160"/>
            <a:ext cx="70106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820880"/>
            <a:ext cx="70106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5970240"/>
            <a:ext cx="152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5970240"/>
            <a:ext cx="2895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5970240"/>
            <a:ext cx="12193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93AC-97D3-4CF0-9995-B73F56786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1116000"/>
            <a:ext cx="705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800000"/>
                </a:solidFill>
                <a:latin typeface="Stylo"/>
              </a:rPr>
              <a:t>Час нравственности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0000" y="2124000"/>
            <a:ext cx="6477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Тема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Учимся договариватьс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и уступ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55614_image_large"/>
          <p:cNvPicPr/>
          <p:nvPr/>
        </p:nvPicPr>
        <p:blipFill>
          <a:blip r:embed="rId2"/>
          <a:stretch/>
        </p:blipFill>
        <p:spPr>
          <a:xfrm>
            <a:off x="4067280" y="3781440"/>
            <a:ext cx="2952720" cy="261936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cc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6200" y="36000"/>
            <a:ext cx="5618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Круг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От сердца к серд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1280" y="1476360"/>
            <a:ext cx="525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друг не смеётся – ты включи ему солнц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включи ему звёзд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ы исправь ошибку, превращаем в улыб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се грустинки и слёзы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оскресенье, суббота: дружба –это не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ть друзья, а для них у друзей нет выход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свалится счастье – подели его на ч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И раздай всем друзьям – это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А когда будет надо, все друзья будут ряд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Чтоб включить тебе солнце и звёз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о кругу протянет руку друг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будет видно в иллюминатор дружба – это экв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Если каждый друг планеты другу ромашкою помаш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То станет ясно дружба – это планета ром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5476"/>
          <p:cNvPicPr/>
          <p:nvPr/>
        </p:nvPicPr>
        <p:blipFill>
          <a:blip r:embed="rId2"/>
          <a:stretch/>
        </p:blipFill>
        <p:spPr>
          <a:xfrm>
            <a:off x="7093080" y="2124000"/>
            <a:ext cx="20206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52360"/>
            <a:ext cx="5905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tylo"/>
              </a:rPr>
              <a:t>Круг радости. Мы -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76360" y="830160"/>
            <a:ext cx="4392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 огромном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Очень разные есть д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ихие и ш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кромные и ум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сть худые, есть толс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лчуны и хохот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остом невел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сильный уче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одних – большие 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 других – кругом весн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рыж, а кто-то б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то-то в играх неум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 над кем нельзя смея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икого нельзя дразн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ужно очень постар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ловно братьев всех лю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 тогда на белом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Так чудесно буд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Т. Дашк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0BA6F60E958[1]"/>
          <p:cNvPicPr/>
          <p:nvPr/>
        </p:nvPicPr>
        <p:blipFill>
          <a:blip r:embed="rId2"/>
          <a:srcRect l="13359" t="0" r="12990" b="0"/>
          <a:stretch/>
        </p:blipFill>
        <p:spPr>
          <a:xfrm>
            <a:off x="7380360" y="1189080"/>
            <a:ext cx="158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4560" y="326520"/>
            <a:ext cx="6050160" cy="86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Разминка «Веревоч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s"/>
          <p:cNvPicPr/>
          <p:nvPr/>
        </p:nvPicPr>
        <p:blipFill>
          <a:blip r:embed="rId2"/>
          <a:stretch/>
        </p:blipFill>
        <p:spPr>
          <a:xfrm>
            <a:off x="2916360" y="1405080"/>
            <a:ext cx="2944800" cy="213012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5" name="Picture 5" descr="161907596f39cfb20c246794a4be9a1c"/>
          <p:cNvPicPr/>
          <p:nvPr/>
        </p:nvPicPr>
        <p:blipFill>
          <a:blip r:embed="rId3"/>
          <a:stretch/>
        </p:blipFill>
        <p:spPr>
          <a:xfrm>
            <a:off x="6156360" y="1620720"/>
            <a:ext cx="2793960" cy="20988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  <p:pic>
        <p:nvPicPr>
          <p:cNvPr id="106" name="Picture 6" descr="0_24ebb_4706e677_L"/>
          <p:cNvPicPr/>
          <p:nvPr/>
        </p:nvPicPr>
        <p:blipFill>
          <a:blip r:embed="rId4"/>
          <a:stretch/>
        </p:blipFill>
        <p:spPr>
          <a:xfrm>
            <a:off x="3708360" y="3902040"/>
            <a:ext cx="3533760" cy="2354400"/>
          </a:xfrm>
          <a:prstGeom prst="rect">
            <a:avLst/>
          </a:prstGeom>
          <a:ln cap="rnd" w="57240">
            <a:solidFill>
              <a:srgbClr val="8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82520"/>
            <a:ext cx="52578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Stylo"/>
              </a:rPr>
              <a:t>Мы – это я и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356000" y="2933640"/>
            <a:ext cx="2016360" cy="122400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949480" y="1387440"/>
            <a:ext cx="18716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979640" y="3083040"/>
            <a:ext cx="2016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и 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6689880" y="3094200"/>
            <a:ext cx="237636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ё живо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914560" y="4716360"/>
            <a:ext cx="2089080" cy="7207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833080" y="4775760"/>
            <a:ext cx="2045880" cy="695160"/>
          </a:xfrm>
          <a:prstGeom prst="rect">
            <a:avLst/>
          </a:prstGeom>
          <a:blipFill rotWithShape="0">
            <a:blip r:embed="rId6"/>
            <a:stretch/>
          </a:blipFill>
          <a:ln w="57240">
            <a:solidFill>
              <a:srgbClr val="800000"/>
            </a:solidFill>
            <a:round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Я и все, кто бы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 о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1405080"/>
            <a:ext cx="2087640" cy="9144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Я и мой брати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25"/>
          <p:cNvCxnSpPr>
            <a:stCxn id="108" idx="0"/>
            <a:endCxn id="109" idx="2"/>
          </p:cNvCxnSpPr>
          <p:nvPr/>
        </p:nvCxnSpPr>
        <p:spPr>
          <a:xfrm flipH="1" flipV="1">
            <a:off x="3885480" y="2329920"/>
            <a:ext cx="1478520" cy="5947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6" name="AutoShape 26"/>
          <p:cNvCxnSpPr>
            <a:stCxn id="108" idx="0"/>
            <a:endCxn id="114" idx="2"/>
          </p:cNvCxnSpPr>
          <p:nvPr/>
        </p:nvCxnSpPr>
        <p:spPr>
          <a:xfrm flipV="1">
            <a:off x="5363640" y="2347200"/>
            <a:ext cx="1477080" cy="577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7" name="AutoShape 27"/>
          <p:cNvCxnSpPr>
            <a:stCxn id="108" idx="1"/>
            <a:endCxn id="110" idx="3"/>
          </p:cNvCxnSpPr>
          <p:nvPr/>
        </p:nvCxnSpPr>
        <p:spPr>
          <a:xfrm flipH="1" flipV="1">
            <a:off x="4024080" y="3539520"/>
            <a:ext cx="629280" cy="684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8" name="AutoShape 28"/>
          <p:cNvCxnSpPr>
            <a:stCxn id="108" idx="3"/>
            <a:endCxn id="111" idx="1"/>
          </p:cNvCxnSpPr>
          <p:nvPr/>
        </p:nvCxnSpPr>
        <p:spPr>
          <a:xfrm>
            <a:off x="6075000" y="3546360"/>
            <a:ext cx="586440" cy="57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19" name="AutoShape 29"/>
          <p:cNvCxnSpPr>
            <a:stCxn id="108" idx="2"/>
            <a:endCxn id="112" idx="0"/>
          </p:cNvCxnSpPr>
          <p:nvPr/>
        </p:nvCxnSpPr>
        <p:spPr>
          <a:xfrm flipH="1">
            <a:off x="3958920" y="4167360"/>
            <a:ext cx="1405440" cy="5212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  <p:cxnSp>
        <p:nvCxnSpPr>
          <p:cNvPr id="120" name="AutoShape 30"/>
          <p:cNvCxnSpPr>
            <a:stCxn id="108" idx="2"/>
            <a:endCxn id="113" idx="0"/>
          </p:cNvCxnSpPr>
          <p:nvPr/>
        </p:nvCxnSpPr>
        <p:spPr>
          <a:xfrm>
            <a:off x="5364000" y="4167360"/>
            <a:ext cx="1493280" cy="54360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51280" y="180720"/>
            <a:ext cx="461016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Нуж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87640" y="1405080"/>
            <a:ext cx="5616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Правило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постановление, предписание, устанавливающее порядок чего – 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Договор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соглашение, обычно письменное, о взаимных обязанност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Bookman Old Style"/>
              </a:rPr>
              <a:t>Соглашение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1900" spc="-1" strike="noStrike">
                <a:solidFill>
                  <a:srgbClr val="000000"/>
                </a:solidFill>
                <a:latin typeface="Bookman Old Style"/>
              </a:rPr>
              <a:t> взаимное согласие, договорённость. Договор, устанавливающий какие – нибудь условия, взаимоотношения, права и обязанности сторо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3280" y="182160"/>
            <a:ext cx="5832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34920" y="5148000"/>
            <a:ext cx="40561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ладкая проблем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7_560_05"/>
          <p:cNvPicPr/>
          <p:nvPr/>
        </p:nvPicPr>
        <p:blipFill>
          <a:blip r:embed="rId2"/>
          <a:stretch/>
        </p:blipFill>
        <p:spPr>
          <a:xfrm>
            <a:off x="3492360" y="1692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000" y="182160"/>
            <a:ext cx="622764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03280" y="1547640"/>
            <a:ext cx="55465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Покажи предм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028000" y="612720"/>
            <a:ext cx="143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4356000" y="3348000"/>
            <a:ext cx="2376720" cy="2665440"/>
            <a:chOff x="4356000" y="3348000"/>
            <a:chExt cx="2376720" cy="2665440"/>
          </a:xfrm>
        </p:grpSpPr>
        <p:sp>
          <p:nvSpPr>
            <p:cNvPr id="130" name="Oval 4"/>
            <p:cNvSpPr/>
            <p:nvPr/>
          </p:nvSpPr>
          <p:spPr>
            <a:xfrm>
              <a:off x="4356000" y="3348000"/>
              <a:ext cx="2376720" cy="26654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5003640" y="4068720"/>
              <a:ext cx="1150920" cy="115272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6"/>
          <p:cNvSpPr/>
          <p:nvPr/>
        </p:nvSpPr>
        <p:spPr>
          <a:xfrm>
            <a:off x="4788000" y="2124000"/>
            <a:ext cx="1512720" cy="1441440"/>
          </a:xfrm>
          <a:prstGeom prst="smileyFace">
            <a:avLst>
              <a:gd name="adj" fmla="val 9282"/>
            </a:avLst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708360" y="3348000"/>
            <a:ext cx="934920" cy="9367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43640" y="3348000"/>
            <a:ext cx="936720" cy="9367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76720" y="468360"/>
            <a:ext cx="475128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Договариваемся все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3640" y="2340000"/>
            <a:ext cx="4127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man Old Style"/>
              </a:rPr>
              <a:t>«Счёт на пальц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_4c6f93c9be689"/>
          <p:cNvPicPr/>
          <p:nvPr/>
        </p:nvPicPr>
        <p:blipFill>
          <a:blip r:embed="rId2"/>
          <a:srcRect l="14801" t="0" r="16484" b="0"/>
          <a:stretch/>
        </p:blipFill>
        <p:spPr>
          <a:xfrm>
            <a:off x="2771640" y="3162240"/>
            <a:ext cx="62280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182160"/>
            <a:ext cx="590544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Басня А.М. Крылова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Stylo"/>
              </a:rPr>
              <a:t>«Лебедь, рак и щу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Лебедь рак да щука.wmv" descr=""/>
          <p:cNvPicPr/>
          <p:nvPr/>
        </p:nvPicPr>
        <p:blipFill>
          <a:blip r:embed="rId2"/>
          <a:stretch/>
        </p:blipFill>
        <p:spPr>
          <a:xfrm>
            <a:off x="3203640" y="1584360"/>
            <a:ext cx="532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12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4:48Z</dcterms:created>
  <dc:creator>Svetlana</dc:creator>
  <dc:description/>
  <dc:language>en-US</dc:language>
  <cp:lastModifiedBy>Admin</cp:lastModifiedBy>
  <dcterms:modified xsi:type="dcterms:W3CDTF">2012-12-06T04:16:11Z</dcterms:modified>
  <cp:revision>51</cp:revision>
  <dc:subject/>
  <dc:title>Мы - разные</dc:title>
</cp:coreProperties>
</file>