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59C-B442-40AB-AEB9-11C573477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436A-9376-433A-8152-F1EA62FCEB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C098-EF11-425C-A454-3E83EBF38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155-689C-493C-B5C2-319C2186D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F7D-07CD-4E33-B381-DE95C53999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CF1-5B81-483C-B649-FE801D264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013-CC26-4DC0-A867-84BBB7623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21E-4072-4DB2-AC6C-C86DCAD1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DD3-AAF7-43A6-8B47-AF96EA98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D01-9BEB-426C-98C2-6F106E4F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A6C-27B4-4A10-961A-AF7105CD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232-93D3-40AB-9058-2C8A290F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0F17-5BA7-44C6-B848-6A178FF9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7F6-4E8F-4CDF-9127-248A721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13B3-FB62-460E-9CF5-92D4E0AC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6616-1698-49FD-8474-FD65E0FA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DA3F-4799-4DA3-A8A0-481EB5A4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968B-F1C6-4586-B2A0-2533368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0DB-4A11-422C-A610-2AAA7FE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9A07-829D-456E-B6FA-A20E1D5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4871-657E-4A22-B05D-C812A7A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E82-E67B-4035-8487-192E6A4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34DC-9245-47F7-A916-1BE681B6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4A19-AC02-43D0-96CE-B2407C5C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56FC-6F3A-48BB-B8DD-1DEB2EB8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BEC2-D63E-4197-B7FA-24F49195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C00F-9C94-4E24-85EC-3EE04D42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D170-37DD-46BB-8AA0-BF30B60D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D732-2533-403F-A6C6-4A63202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437-B884-4A66-B62E-F463197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47A5-5428-42D9-8BDF-710C8C5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AA0C-3B65-4E72-90EB-E546A25D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5A52-7444-41F3-BF0F-DC6768B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AF58-A977-4A8A-B76E-36C103A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C911-263B-49A5-8294-35E55D6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EB55-43FD-4A13-A65E-EDF81D2C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7D5C-E270-405C-A399-639C7AA3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9507-75AD-41D7-9541-5E5698AE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7B99-296F-42A0-A3AC-262660A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C6E8-7329-477D-8677-799B9542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E92-A13C-4560-AC9A-DF4DA9A5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D566-3B9F-4D69-AA53-85AA0ED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0CC4-0126-43E8-BF06-5BD0EF3C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2702-F71B-415A-AEC7-CC6011C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8590-E83D-422B-88BF-8BE1595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AC36-8C04-4882-9C5E-3D25882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B80D-DAB9-405B-BC76-DB08CDE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39C9-9433-46F7-BE0E-38D8B5A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7CE98-EE34-4307-8DD5-D115510B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4B85-E896-489A-9242-81282CA3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6CBA-16B5-435F-B277-56B064AE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BCD-FFEB-434A-AB17-08F6703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331D-56D6-429B-A247-992CFFC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1532-A11E-4916-A2D0-0A1F5A91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C9DC-607D-436D-B481-4FCFB95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54D6-A7D2-4C7B-8D3C-C1BC0413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0883F-4155-4FFA-87AA-2EE485C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3278-1E46-459B-950C-0C6143E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51D5-E0EB-4C38-AC01-FAFBBA2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DA38-E1B1-44C9-9D6B-E734E6C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A8BF-E0BD-4C3A-A795-370A6F3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B964-CB0E-4AF9-A192-64A16089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025-687A-4F2A-A0D4-7409DF4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A53F-CF46-4940-AED5-1F02A30E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2FCF9-1C7F-47D0-8092-892E607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E999-4C5C-4B75-A6E9-E639D76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4B1A-013E-48CD-B2CE-04EA9A8C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465E-F07D-4BCB-B7BB-7D8FC8E2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BD44-9699-4A33-B5A6-812B453E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342E-E445-43E1-9033-6A30885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63A9-D0C1-4D13-81C7-CD219EA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3FEC5-8512-4E51-B39A-81F2AA7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0B97-ADA0-48F9-B5A2-204C421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017-F907-4F79-AF4E-9B7602E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2AF5-823E-4C88-9A14-71324474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D0652-93B5-4A12-B9FB-3C0BD466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4126-8060-4774-ADC6-C915152C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214C-F9DB-4156-9209-DABCC976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36D5-55EC-433F-9B01-178576F2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9DC9-4390-4D58-B0C2-DA455D9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0C2A-1348-42C1-9C4B-C4E5F8A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24F2-2549-421F-825A-8B81D781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07C29-0EAD-4C44-8B8E-D84252E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A20D-9BA8-4E39-AF15-6ACC6C3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939-2AF8-4D79-BF2D-392358C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0FEB-9B5A-488F-A9BC-432875B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1C02-6A72-4DE7-854D-AA804AB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ABEF-E148-419D-AFE2-E340FC2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D8D2B-3F0A-46A3-BBFD-CCD0B972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1AA5-5A93-40F8-9707-4E99125D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8324-F652-4353-B62B-6214972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9F09C-CA9B-472C-911A-5B26941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8F55E-71A5-4BB5-8087-B2715AC3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024C6-0FFA-4007-BD26-01D9784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D7BA-1837-4AA6-8F8C-7811A74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FDB-99F8-429C-8F10-2BE27010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089A5-8DE2-4EC7-905C-C05E56DB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9AED8-2E80-4D50-BE3E-B891F2E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5CBA-7F7F-4194-B943-9C14640D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8D49-2379-4696-BF5A-F0B5A6E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98FE-D7C9-44ED-9B18-9913B21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390F5-0D3D-41D7-A3E1-52166C47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1C2B-1D86-4D0C-A78A-0B8F073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5DBA-E17D-4601-B4BF-424B5AE2838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EACC-A501-4A09-9D64-C96584533FC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72D-C0A3-4FBA-AD3D-E5B2B0B5E91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238-FE6B-4263-8375-B9C9AB42AF7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B6A-01C6-481C-8135-CEFE21DF346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04CC-BE0D-4457-A50F-E440D1FBC74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726-110A-4219-83A8-42F5F5968E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86D5-63F3-4147-8814-E647F7CFD7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2286000" y="2071800"/>
            <a:ext cx="60008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рок русского язы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3071880" y="507204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ГУ СОШ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Есекенова Салтанат Балаб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о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е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Облако 5"/>
          <p:cNvGrpSpPr/>
          <p:nvPr/>
        </p:nvGrpSpPr>
        <p:grpSpPr>
          <a:xfrm>
            <a:off x="4224240" y="1468440"/>
            <a:ext cx="976320" cy="1335240"/>
            <a:chOff x="4224240" y="1468440"/>
            <a:chExt cx="976320" cy="1335240"/>
          </a:xfrm>
        </p:grpSpPr>
        <p:pic>
          <p:nvPicPr>
            <p:cNvPr id="383" name="Облако 5" descr=""/>
            <p:cNvPicPr/>
            <p:nvPr/>
          </p:nvPicPr>
          <p:blipFill>
            <a:blip r:embed="rId2"/>
            <a:stretch/>
          </p:blipFill>
          <p:spPr>
            <a:xfrm>
              <a:off x="4224240" y="146844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03880" y="168444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Облако 7"/>
          <p:cNvGrpSpPr/>
          <p:nvPr/>
        </p:nvGrpSpPr>
        <p:grpSpPr>
          <a:xfrm>
            <a:off x="4224240" y="4754520"/>
            <a:ext cx="976320" cy="1335240"/>
            <a:chOff x="4224240" y="4754520"/>
            <a:chExt cx="976320" cy="1335240"/>
          </a:xfrm>
        </p:grpSpPr>
        <p:pic>
          <p:nvPicPr>
            <p:cNvPr id="386" name="Облако 7" descr=""/>
            <p:cNvPicPr/>
            <p:nvPr/>
          </p:nvPicPr>
          <p:blipFill>
            <a:blip r:embed="rId3"/>
            <a:stretch/>
          </p:blipFill>
          <p:spPr>
            <a:xfrm>
              <a:off x="4224240" y="475452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03880" y="497052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блако 8"/>
          <p:cNvGrpSpPr/>
          <p:nvPr/>
        </p:nvGrpSpPr>
        <p:grpSpPr>
          <a:xfrm>
            <a:off x="4297320" y="2682720"/>
            <a:ext cx="969840" cy="1339920"/>
            <a:chOff x="4297320" y="2682720"/>
            <a:chExt cx="969840" cy="1339920"/>
          </a:xfrm>
        </p:grpSpPr>
        <p:pic>
          <p:nvPicPr>
            <p:cNvPr id="389" name="Облако 8" descr=""/>
            <p:cNvPicPr/>
            <p:nvPr/>
          </p:nvPicPr>
          <p:blipFill>
            <a:blip r:embed="rId4"/>
            <a:stretch/>
          </p:blipFill>
          <p:spPr>
            <a:xfrm>
              <a:off x="4297320" y="2682720"/>
              <a:ext cx="9698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475160" y="2898720"/>
              <a:ext cx="5605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Облако 9"/>
          <p:cNvGrpSpPr/>
          <p:nvPr/>
        </p:nvGrpSpPr>
        <p:grpSpPr>
          <a:xfrm>
            <a:off x="4602240" y="3657600"/>
            <a:ext cx="1152360" cy="1212840"/>
            <a:chOff x="4602240" y="3657600"/>
            <a:chExt cx="1152360" cy="1212840"/>
          </a:xfrm>
        </p:grpSpPr>
        <p:pic>
          <p:nvPicPr>
            <p:cNvPr id="392" name="Облако 9" descr=""/>
            <p:cNvPicPr/>
            <p:nvPr/>
          </p:nvPicPr>
          <p:blipFill>
            <a:blip r:embed="rId5"/>
            <a:stretch/>
          </p:blipFill>
          <p:spPr>
            <a:xfrm>
              <a:off x="4602240" y="3657600"/>
              <a:ext cx="1152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723200">
              <a:off x="4874760" y="3803400"/>
              <a:ext cx="5605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я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000240" y="2000160"/>
            <a:ext cx="35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571840" y="1571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Клю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542916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4429080" y="2143080"/>
            <a:ext cx="400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Нет ошибок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1     ошибка-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2    ошибки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Больше -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278604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714760" y="4214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5286240" y="27147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00024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2786040" y="5357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0"/>
          <p:cNvSpPr/>
          <p:nvPr/>
        </p:nvSpPr>
        <p:spPr>
          <a:xfrm>
            <a:off x="2714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35788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"/>
          <p:cNvSpPr/>
          <p:nvPr/>
        </p:nvSpPr>
        <p:spPr>
          <a:xfrm>
            <a:off x="5429160" y="3429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521496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5143680" y="5357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2571840" y="1643040"/>
            <a:ext cx="5572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Распредели слова в два столб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5715000" y="2143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857680" y="33577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786040" y="2143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786040" y="4000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564372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557208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5572080" y="2786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278604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2857680" y="4572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2857680" y="52862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2643120" y="1500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6"/>
          <p:cNvSpPr/>
          <p:nvPr/>
        </p:nvSpPr>
        <p:spPr>
          <a:xfrm>
            <a:off x="2643120" y="185724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писатель, щенок, дятел, читатель, олень, ученик,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е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книга, орех, шкаф, загадка, грусть, перец,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Овал 15"/>
          <p:cNvSpPr/>
          <p:nvPr/>
        </p:nvSpPr>
        <p:spPr>
          <a:xfrm>
            <a:off x="2571840" y="16430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7"/>
          <p:cNvSpPr/>
          <p:nvPr/>
        </p:nvSpPr>
        <p:spPr>
          <a:xfrm>
            <a:off x="4929120" y="2428920"/>
            <a:ext cx="1500120" cy="71424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8"/>
          <p:cNvSpPr/>
          <p:nvPr/>
        </p:nvSpPr>
        <p:spPr>
          <a:xfrm rot="21208800">
            <a:off x="2896920" y="4016520"/>
            <a:ext cx="1571400" cy="7855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59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3"/>
          <p:cNvSpPr/>
          <p:nvPr/>
        </p:nvSpPr>
        <p:spPr>
          <a:xfrm>
            <a:off x="6786720" y="192888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4"/>
          <p:cNvSpPr/>
          <p:nvPr/>
        </p:nvSpPr>
        <p:spPr>
          <a:xfrm>
            <a:off x="3857760" y="5286240"/>
            <a:ext cx="1000080" cy="57168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5"/>
          <p:cNvSpPr/>
          <p:nvPr/>
        </p:nvSpPr>
        <p:spPr>
          <a:xfrm>
            <a:off x="5072040" y="435780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6"/>
          <p:cNvSpPr/>
          <p:nvPr/>
        </p:nvSpPr>
        <p:spPr>
          <a:xfrm>
            <a:off x="6572160" y="335772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28"/>
          <p:cNvCxnSpPr/>
          <p:nvPr/>
        </p:nvCxnSpPr>
        <p:spPr>
          <a:xfrm>
            <a:off x="4500720" y="2499840"/>
            <a:ext cx="42912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6" name="Прямая со стрелкой 29"/>
          <p:cNvCxnSpPr/>
          <p:nvPr/>
        </p:nvCxnSpPr>
        <p:spPr>
          <a:xfrm flipH="1">
            <a:off x="3499560" y="3071520"/>
            <a:ext cx="72360" cy="78660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7" name="Прямая со стрелкой 31"/>
          <p:cNvCxnSpPr/>
          <p:nvPr/>
        </p:nvCxnSpPr>
        <p:spPr>
          <a:xfrm>
            <a:off x="6214680" y="3214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8" name="Прямая со стрелкой 32"/>
          <p:cNvCxnSpPr/>
          <p:nvPr/>
        </p:nvCxnSpPr>
        <p:spPr>
          <a:xfrm>
            <a:off x="4571640" y="4357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9" name="Прямая со стрелкой 33"/>
          <p:cNvCxnSpPr/>
          <p:nvPr/>
        </p:nvCxnSpPr>
        <p:spPr>
          <a:xfrm>
            <a:off x="3929040" y="4929120"/>
            <a:ext cx="286560" cy="28656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40" name="Прямая со стрелкой 35"/>
          <p:cNvCxnSpPr/>
          <p:nvPr/>
        </p:nvCxnSpPr>
        <p:spPr>
          <a:xfrm flipV="1">
            <a:off x="6357600" y="242820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sp>
        <p:nvSpPr>
          <p:cNvPr id="441" name="TextBox 38"/>
          <p:cNvSpPr/>
          <p:nvPr/>
        </p:nvSpPr>
        <p:spPr>
          <a:xfrm>
            <a:off x="4357800" y="15717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Lucida Sans Unicode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2286000" y="2357280"/>
            <a:ext cx="60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урок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5:11Z</dcterms:created>
  <dc:creator>Oksana</dc:creator>
  <dc:description/>
  <dc:language>en-US</dc:language>
  <cp:lastModifiedBy>Дом</cp:lastModifiedBy>
  <dcterms:modified xsi:type="dcterms:W3CDTF">2014-10-16T05:12:06Z</dcterms:modified>
  <cp:revision>16</cp:revision>
  <dc:subject/>
  <dc:title>Слайд 1</dc:title>
</cp:coreProperties>
</file>