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6E95-8880-486B-811B-4D20F828AF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E126-EE3D-491C-8022-E2CC6D3DA8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9902-F7B8-45E0-BCE6-70DCFC6789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91AE-BCC8-4D26-B342-DC31FCCB53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8549-6755-4706-AFEA-85CBE12615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221C-1855-4EFB-92A1-4A2D69F5C3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7FDC-1B66-41CF-ABE6-678C6A2553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78D9-EE71-414F-A199-920EBCBF7C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5569-0F72-4A90-847C-B7A0666597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03C8-3FB4-4C7B-A0D2-CBBE5569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F71D-5820-4885-938A-F4EEF76B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B1FA-0430-4C74-AE3B-ED1C87BB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CC5-ED6B-4DD0-974C-9C68062F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CA26-03C0-4277-B9F8-D2DF1659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4DCB-482C-4766-BC44-21132143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186-C242-4093-AD79-A719F97F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D4C-36F0-4605-A608-E8F3EBFF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67C9-F142-4137-8343-D0605144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05E3-2144-46F9-BFFE-B974A2DF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C119-D091-463D-B05D-10A0F2F6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13AC-2DB8-400A-B299-6A2C22D3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44BD-8A81-4021-A516-764CDD1D63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orle.ru/user/pic27053986.jpg" TargetMode="External"/><Relationship Id="rId2" Type="http://schemas.openxmlformats.org/officeDocument/2006/relationships/hyperlink" Target="http://img-fotki.yandex.ru/get/5804/alona-mera777.9/0_8e1d0_8628af03_XL" TargetMode="External"/><Relationship Id="rId3" Type="http://schemas.openxmlformats.org/officeDocument/2006/relationships/hyperlink" Target="http://file.blog-24.com/utili/90000/88000/88370/file/kelebekler/8863ab60.gif" TargetMode="External"/><Relationship Id="rId4" Type="http://schemas.openxmlformats.org/officeDocument/2006/relationships/hyperlink" Target="http://i076.radikal.ru/1005/f5/f75725796053.jpg" TargetMode="External"/><Relationship Id="rId5" Type="http://schemas.openxmlformats.org/officeDocument/2006/relationships/hyperlink" Target="http://img1.liveinternet.ru/images/attach/c/3/75/508/75508673_280827.jpg" TargetMode="External"/><Relationship Id="rId6" Type="http://schemas.openxmlformats.org/officeDocument/2006/relationships/hyperlink" Target="http://img-fotki.yandex.ru/get/4905/xsi-666.11f/0_43994_f6472f69_XL.jpg" TargetMode="External"/><Relationship Id="rId7" Type="http://schemas.openxmlformats.org/officeDocument/2006/relationships/hyperlink" Target="http://forum.materinstvo.ru/uploads/1311662932/post-30446-1311735041.jpg" TargetMode="External"/><Relationship Id="rId8" Type="http://schemas.openxmlformats.org/officeDocument/2006/relationships/hyperlink" Target="http://www.ekosilamsk.ru/wp-content/gallery/muravi/muravej_0.jpg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7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8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9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20.pn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1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1196640"/>
            <a:ext cx="79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Monotype Corsiva"/>
              </a:rPr>
              <a:t>Анимированный кроссворд «НАСЕКОМЫ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5280" y="3716280"/>
            <a:ext cx="4816440" cy="19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ила: Травнева Ольг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спублика Казах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гандин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акар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ГУ «Средняя школа №21 с. Сарыоз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Пользователь\Documents\кроссворд насекомые\животные\пчёлка.png"/>
          <p:cNvPicPr/>
          <p:nvPr/>
        </p:nvPicPr>
        <p:blipFill>
          <a:blip r:embed="rId1"/>
          <a:stretch/>
        </p:blipFill>
        <p:spPr>
          <a:xfrm rot="935400">
            <a:off x="2142720" y="3286080"/>
            <a:ext cx="1857600" cy="147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Пользователь\Documents\кроссворд насекомые\животные\пчёлка.png"/>
          <p:cNvPicPr/>
          <p:nvPr/>
        </p:nvPicPr>
        <p:blipFill>
          <a:blip r:embed="rId2"/>
          <a:stretch/>
        </p:blipFill>
        <p:spPr>
          <a:xfrm>
            <a:off x="407880" y="3054240"/>
            <a:ext cx="1927440" cy="1670040"/>
          </a:xfrm>
          <a:prstGeom prst="rect">
            <a:avLst/>
          </a:prstGeom>
          <a:ln w="0">
            <a:noFill/>
          </a:ln>
        </p:spPr>
      </p:pic>
      <p:sp>
        <p:nvSpPr>
          <p:cNvPr id="5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43920" y="650088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28880" y="0"/>
            <a:ext cx="56433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источник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orle.ru/user/pic27053986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бабочка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g-fotki.yandex.ru/get/5804/alona-mera777.9/0_8e1d0_8628af03_X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бабочк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file.blog-24.com/utili/90000/88000/88370/file/kelebekler/8863ab60.gi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стре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076.radikal.ru/1005/f5/f75725796053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ж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g1.liveinternet.ru/images/attach/c/3/75/508/75508673_280827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кузне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g-fotki.yandex.ru/get/4905/xsi-666.11f/0_43994_f6472f69_XL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пч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forum.materinstvo.ru/uploads/1311662932/post-30446-1311735041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- светля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kosilamsk.ru/wp-content/gallery/muravi/muravej_0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мурав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a4.sphotos.ak.fbcdn.net/hphotos-ak-snc7/299779_179317505473270_149845395087148_408882_2826245_n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 ком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proza.ru/pics/2011/06/17/1429.gi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муравей с лу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g-fotki.yandex.ru/get/5606/cadi-1986.517/0_80266_6e17ba8c_X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пчё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Вертикальный свиток 59"/>
          <p:cNvGrpSpPr/>
          <p:nvPr/>
        </p:nvGrpSpPr>
        <p:grpSpPr>
          <a:xfrm>
            <a:off x="5694480" y="3687840"/>
            <a:ext cx="3833640" cy="3193920"/>
            <a:chOff x="5694480" y="3687840"/>
            <a:chExt cx="3833640" cy="3193920"/>
          </a:xfrm>
        </p:grpSpPr>
        <p:pic>
          <p:nvPicPr>
            <p:cNvPr id="108" name="Вертикальный свиток 59" descr=""/>
            <p:cNvPicPr/>
            <p:nvPr/>
          </p:nvPicPr>
          <p:blipFill>
            <a:blip r:embed="rId1"/>
            <a:stretch/>
          </p:blipFill>
          <p:spPr>
            <a:xfrm>
              <a:off x="5694480" y="3687840"/>
              <a:ext cx="3833640" cy="31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108840" y="4108320"/>
              <a:ext cx="300024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Спал цвето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и вдруг проснулс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Больше сп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не захотел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Шевельнулся, встрепенулс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Взвился вверх и улетел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61" descr="E:\кроссворд насекомые\животные\муравей2.gif"/>
          <p:cNvPicPr/>
          <p:nvPr/>
        </p:nvPicPr>
        <p:blipFill>
          <a:blip r:embed="rId2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2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686000">
            <a:off x="939240" y="2782440"/>
            <a:ext cx="728280" cy="534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3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8511800">
            <a:off x="7737120" y="990000"/>
            <a:ext cx="962280" cy="704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4" descr="E:\кроссворд насекомые\животные\бабочка3.png"/>
          <p:cNvPicPr/>
          <p:nvPr/>
        </p:nvPicPr>
        <p:blipFill>
          <a:blip r:embed="rId5"/>
          <a:stretch/>
        </p:blipFill>
        <p:spPr>
          <a:xfrm rot="19635000">
            <a:off x="7272360" y="2545920"/>
            <a:ext cx="906480" cy="663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5" descr="E:\кроссворд насекомые\животные\бабочка3.png"/>
          <p:cNvPicPr/>
          <p:nvPr/>
        </p:nvPicPr>
        <p:blipFill>
          <a:blip r:embed="rId6"/>
          <a:stretch/>
        </p:blipFill>
        <p:spPr>
          <a:xfrm rot="20428200">
            <a:off x="74520" y="5116680"/>
            <a:ext cx="797040" cy="583920"/>
          </a:xfrm>
          <a:prstGeom prst="rect">
            <a:avLst/>
          </a:prstGeom>
          <a:ln w="0">
            <a:noFill/>
          </a:ln>
        </p:spPr>
      </p:pic>
      <p:sp>
        <p:nvSpPr>
          <p:cNvPr id="115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8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3011400">
            <a:off x="1385280" y="5090760"/>
            <a:ext cx="1146240" cy="838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0" descr=""/>
          <p:cNvPicPr/>
          <p:nvPr/>
        </p:nvPicPr>
        <p:blipFill>
          <a:blip r:embed="rId8"/>
          <a:stretch/>
        </p:blipFill>
        <p:spPr>
          <a:xfrm>
            <a:off x="214200" y="571680"/>
            <a:ext cx="2708280" cy="19285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118" name="Заголовок 82"/>
          <p:cNvSpPr/>
          <p:nvPr/>
        </p:nvSpPr>
        <p:spPr>
          <a:xfrm>
            <a:off x="5000760" y="214200"/>
            <a:ext cx="428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Управляющая кнопка: далее 86">
            <a:hlinkClick r:id="" action="ppaction://hlinkshowjump?jump=nextslide"/>
          </p:cNvPr>
          <p:cNvSpPr/>
          <p:nvPr/>
        </p:nvSpPr>
        <p:spPr>
          <a:xfrm>
            <a:off x="8215200" y="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3794"/>
                </a:moveTo>
                <a:lnTo>
                  <a:pt x="35078" y="10800"/>
                </a:lnTo>
                <a:lnTo>
                  <a:pt x="21065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Вертикальный свиток 61"/>
          <p:cNvSpPr/>
          <p:nvPr/>
        </p:nvSpPr>
        <p:spPr>
          <a:xfrm>
            <a:off x="5786280" y="3714840"/>
            <a:ext cx="371484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за девчо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поясе то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громные о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етит – стреко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3184200">
            <a:off x="853560" y="2826720"/>
            <a:ext cx="728640" cy="535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3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18703800">
            <a:off x="7952040" y="934560"/>
            <a:ext cx="880920" cy="645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4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1176400">
            <a:off x="7251480" y="1980720"/>
            <a:ext cx="887400" cy="650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5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428200">
            <a:off x="289080" y="5258880"/>
            <a:ext cx="796680" cy="584280"/>
          </a:xfrm>
          <a:prstGeom prst="rect">
            <a:avLst/>
          </a:prstGeom>
          <a:ln w="0">
            <a:noFill/>
          </a:ln>
        </p:spPr>
      </p:pic>
      <p:sp>
        <p:nvSpPr>
          <p:cNvPr id="178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2" descr=""/>
          <p:cNvPicPr/>
          <p:nvPr/>
        </p:nvPicPr>
        <p:blipFill>
          <a:blip r:embed="rId5"/>
          <a:stretch/>
        </p:blipFill>
        <p:spPr>
          <a:xfrm>
            <a:off x="214200" y="571680"/>
            <a:ext cx="2505240" cy="20858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180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928880" y="471492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47600">
            <a:off x="1706040" y="5424120"/>
            <a:ext cx="1167120" cy="855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14680" y="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Вертикальный свиток 67"/>
          <p:cNvSpPr/>
          <p:nvPr/>
        </p:nvSpPr>
        <p:spPr>
          <a:xfrm>
            <a:off x="5786280" y="3714840"/>
            <a:ext cx="364356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Ходил рог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 шести ходу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доль спины себя слом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рылья белые дост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жужжал рогул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летел, как пу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673600">
            <a:off x="868680" y="2822040"/>
            <a:ext cx="728640" cy="535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289080" y="5187600"/>
            <a:ext cx="796680" cy="584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8489000">
            <a:off x="7610040" y="927000"/>
            <a:ext cx="1120680" cy="821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260800">
            <a:off x="7124760" y="2219040"/>
            <a:ext cx="906480" cy="663480"/>
          </a:xfrm>
          <a:prstGeom prst="rect">
            <a:avLst/>
          </a:prstGeom>
          <a:ln w="0">
            <a:noFill/>
          </a:ln>
        </p:spPr>
      </p:pic>
      <p:sp>
        <p:nvSpPr>
          <p:cNvPr id="242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3" descr=""/>
          <p:cNvPicPr/>
          <p:nvPr/>
        </p:nvPicPr>
        <p:blipFill>
          <a:blip r:embed="rId5"/>
          <a:stretch/>
        </p:blipFill>
        <p:spPr>
          <a:xfrm>
            <a:off x="214200" y="500040"/>
            <a:ext cx="2840040" cy="207180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244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54200">
            <a:off x="1503000" y="5207040"/>
            <a:ext cx="1217520" cy="892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42840" y="114300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Вертикальный свиток 68"/>
          <p:cNvSpPr/>
          <p:nvPr/>
        </p:nvSpPr>
        <p:spPr>
          <a:xfrm>
            <a:off x="5786280" y="3714840"/>
            <a:ext cx="357192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мя взял у кузне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Цвет – у огур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рылья – у мош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ожки – у бло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287200">
            <a:off x="729720" y="2811240"/>
            <a:ext cx="729000" cy="534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217440" y="525924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7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260800">
            <a:off x="7095600" y="2249640"/>
            <a:ext cx="966960" cy="707760"/>
          </a:xfrm>
          <a:prstGeom prst="rect">
            <a:avLst/>
          </a:prstGeom>
          <a:ln w="0">
            <a:noFill/>
          </a:ln>
        </p:spPr>
      </p:pic>
      <p:sp>
        <p:nvSpPr>
          <p:cNvPr id="305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8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9054200">
            <a:off x="7554600" y="971280"/>
            <a:ext cx="1050840" cy="768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5" descr="C:\Users\Пользователь\Documents\кроссворд насекомые\животные\кузнечик2.jpg"/>
          <p:cNvPicPr/>
          <p:nvPr/>
        </p:nvPicPr>
        <p:blipFill>
          <a:blip r:embed="rId5"/>
          <a:stretch/>
        </p:blipFill>
        <p:spPr>
          <a:xfrm>
            <a:off x="142920" y="571680"/>
            <a:ext cx="2666880" cy="200016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308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43400">
            <a:off x="1549440" y="5249880"/>
            <a:ext cx="1033560" cy="758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57680" y="200016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8"/>
          <p:cNvSpPr/>
          <p:nvPr/>
        </p:nvSpPr>
        <p:spPr>
          <a:xfrm>
            <a:off x="1928880" y="4005360"/>
            <a:ext cx="48240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Вертикальный свиток 69"/>
          <p:cNvSpPr/>
          <p:nvPr/>
        </p:nvSpPr>
        <p:spPr>
          <a:xfrm>
            <a:off x="5929200" y="3714840"/>
            <a:ext cx="350064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ботник садовый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ясок мед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18972600">
            <a:off x="7633800" y="857520"/>
            <a:ext cx="1003320" cy="736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3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765400">
            <a:off x="874440" y="2628720"/>
            <a:ext cx="806400" cy="590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5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428200">
            <a:off x="74520" y="525924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1168000">
            <a:off x="7126200" y="1993680"/>
            <a:ext cx="935280" cy="685800"/>
          </a:xfrm>
          <a:prstGeom prst="rect">
            <a:avLst/>
          </a:prstGeom>
          <a:ln w="0">
            <a:noFill/>
          </a:ln>
        </p:spPr>
      </p:pic>
      <p:sp>
        <p:nvSpPr>
          <p:cNvPr id="370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7" descr="C:\Users\Пользователь\Documents\кроссворд насекомые\животные\пчела2.jpg"/>
          <p:cNvPicPr/>
          <p:nvPr/>
        </p:nvPicPr>
        <p:blipFill>
          <a:blip r:embed="rId5"/>
          <a:stretch/>
        </p:blipFill>
        <p:spPr>
          <a:xfrm>
            <a:off x="214200" y="571680"/>
            <a:ext cx="2828880" cy="195228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372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36200">
            <a:off x="1429920" y="5132160"/>
            <a:ext cx="1201680" cy="8809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28880" y="242892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7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Вертикальный свиток 70"/>
          <p:cNvSpPr/>
          <p:nvPr/>
        </p:nvSpPr>
        <p:spPr>
          <a:xfrm>
            <a:off x="5857920" y="3786120"/>
            <a:ext cx="350028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олько ноченька наст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поле вспыхнул огонё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Что там? Тлеет уголё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ли звёздочка упал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726400">
            <a:off x="939960" y="2822040"/>
            <a:ext cx="729000" cy="534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21309000">
            <a:off x="7101720" y="1899720"/>
            <a:ext cx="1042920" cy="7653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9177200">
            <a:off x="7553160" y="888840"/>
            <a:ext cx="1040040" cy="762120"/>
          </a:xfrm>
          <a:prstGeom prst="rect">
            <a:avLst/>
          </a:prstGeom>
          <a:ln w="0">
            <a:noFill/>
          </a:ln>
        </p:spPr>
      </p:pic>
      <p:sp>
        <p:nvSpPr>
          <p:cNvPr id="434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78" descr="C:\Users\Пользователь\Documents\кроссворд насекомые\животные\святлячок1.jpg"/>
          <p:cNvPicPr/>
          <p:nvPr/>
        </p:nvPicPr>
        <p:blipFill>
          <a:blip r:embed="rId5"/>
          <a:stretch/>
        </p:blipFill>
        <p:spPr>
          <a:xfrm>
            <a:off x="214200" y="571680"/>
            <a:ext cx="2643480" cy="211428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436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56600">
            <a:off x="1508040" y="5144760"/>
            <a:ext cx="1255680" cy="920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13880" y="3642840"/>
            <a:ext cx="42876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2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Вертикальный свиток 71"/>
          <p:cNvSpPr/>
          <p:nvPr/>
        </p:nvSpPr>
        <p:spPr>
          <a:xfrm>
            <a:off x="6000840" y="3786120"/>
            <a:ext cx="335736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рнокожий карапу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 по росту тянет гру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3180600">
            <a:off x="996480" y="2755440"/>
            <a:ext cx="728640" cy="5349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4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18704400">
            <a:off x="7785720" y="847080"/>
            <a:ext cx="1116000" cy="819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5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731800">
            <a:off x="7035840" y="2076120"/>
            <a:ext cx="1012680" cy="743040"/>
          </a:xfrm>
          <a:prstGeom prst="rect">
            <a:avLst/>
          </a:prstGeom>
          <a:ln w="0">
            <a:noFill/>
          </a:ln>
        </p:spPr>
      </p:pic>
      <p:sp>
        <p:nvSpPr>
          <p:cNvPr id="498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79" descr=""/>
          <p:cNvPicPr/>
          <p:nvPr/>
        </p:nvPicPr>
        <p:blipFill>
          <a:blip r:embed="rId5"/>
          <a:stretch/>
        </p:blipFill>
        <p:spPr>
          <a:xfrm>
            <a:off x="214200" y="571680"/>
            <a:ext cx="2714760" cy="20048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500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76400">
            <a:off x="1427040" y="5152680"/>
            <a:ext cx="1216080" cy="89208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57880" y="335772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6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Вертикальный свиток 72"/>
          <p:cNvSpPr/>
          <p:nvPr/>
        </p:nvSpPr>
        <p:spPr>
          <a:xfrm>
            <a:off x="5786280" y="3786120"/>
            <a:ext cx="357192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и зверь, ни пти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нос как сп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Летит – крич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ядет – молч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то его убьё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вою кровь проль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922000">
            <a:off x="1006200" y="2754000"/>
            <a:ext cx="728640" cy="5349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8371400">
            <a:off x="7804800" y="965520"/>
            <a:ext cx="990720" cy="726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260800">
            <a:off x="7025760" y="2155320"/>
            <a:ext cx="1055880" cy="774720"/>
          </a:xfrm>
          <a:prstGeom prst="rect">
            <a:avLst/>
          </a:prstGeom>
          <a:ln w="0">
            <a:noFill/>
          </a:ln>
        </p:spPr>
      </p:pic>
      <p:sp>
        <p:nvSpPr>
          <p:cNvPr id="562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0" descr="C:\Users\Пользователь\Documents\кроссворд насекомые\животные\комар1.jpg"/>
          <p:cNvPicPr/>
          <p:nvPr/>
        </p:nvPicPr>
        <p:blipFill>
          <a:blip r:embed="rId5"/>
          <a:stretch/>
        </p:blipFill>
        <p:spPr>
          <a:xfrm>
            <a:off x="214200" y="571680"/>
            <a:ext cx="2897280" cy="19285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564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78800">
            <a:off x="1430280" y="5208480"/>
            <a:ext cx="1212840" cy="88920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285720" y="457200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9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6:00:07Z</dcterms:created>
  <dc:creator>ww</dc:creator>
  <dc:description/>
  <dc:language>en-US</dc:language>
  <cp:lastModifiedBy>Пользователь</cp:lastModifiedBy>
  <dcterms:modified xsi:type="dcterms:W3CDTF">2012-03-26T14:54:06Z</dcterms:modified>
  <cp:revision>32</cp:revision>
  <dc:subject/>
  <dc:title>Анимированный кроссворд «НАСЕКОМЫЕ»</dc:title>
</cp:coreProperties>
</file>