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0E36-F654-4356-9943-5CC8C9C4C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DF79-E617-4BC5-94DE-2247DA70E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B865-8C05-4F0E-B5F0-D76D52489B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0A11-96BD-430D-85B1-52ADE2E433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567B-6540-426F-9BA3-B8F213B66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7A93-09CF-489D-A18C-0EE857768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03B3-C707-45FD-91AB-FD650B000A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B2A1-5E1A-4065-B75D-04F6CF3A1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68DA-A783-4255-8E7E-DB6516BCD9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8CC-8F4D-4646-BB9D-4F2FA0182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571-28BA-4D96-8780-16B82581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1E70-5AEA-475C-953B-D45BDF21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692D-0B0D-43E1-985E-A27421E5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70E-38D4-424E-B658-43B7771F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6AA3-62D5-4773-B6E0-AB939E3B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0A0C-F639-4F97-9121-1E09EF11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2758-0EDA-4D3D-B4A3-670A4FE0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74B-F54D-4794-AC60-39B86FC4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407-9C85-4FB0-9F7A-EA6E36AA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91E-3053-4FDD-9E1B-937D775F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1C5-4139-44D0-9F71-DD7B6BA9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02E3-BA96-493E-A779-8290F42DF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orle.ru/user/pic27053986.jpg" TargetMode="External"/><Relationship Id="rId2" Type="http://schemas.openxmlformats.org/officeDocument/2006/relationships/hyperlink" Target="http://img-fotki.yandex.ru/get/5804/alona-mera777.9/0_8e1d0_8628af03_XL" TargetMode="External"/><Relationship Id="rId3" Type="http://schemas.openxmlformats.org/officeDocument/2006/relationships/hyperlink" Target="http://file.blog-24.com/utili/90000/88000/88370/file/kelebekler/8863ab60.gif" TargetMode="External"/><Relationship Id="rId4" Type="http://schemas.openxmlformats.org/officeDocument/2006/relationships/hyperlink" Target="http://i076.radikal.ru/1005/f5/f75725796053.jpg" TargetMode="External"/><Relationship Id="rId5" Type="http://schemas.openxmlformats.org/officeDocument/2006/relationships/hyperlink" Target="http://img1.liveinternet.ru/images/attach/c/3/75/508/75508673_280827.jpg" TargetMode="External"/><Relationship Id="rId6" Type="http://schemas.openxmlformats.org/officeDocument/2006/relationships/hyperlink" Target="http://img-fotki.yandex.ru/get/4905/xsi-666.11f/0_43994_f6472f69_XL.jpg" TargetMode="External"/><Relationship Id="rId7" Type="http://schemas.openxmlformats.org/officeDocument/2006/relationships/hyperlink" Target="http://forum.materinstvo.ru/uploads/1311662932/post-30446-1311735041.jpg" TargetMode="External"/><Relationship Id="rId8" Type="http://schemas.openxmlformats.org/officeDocument/2006/relationships/hyperlink" Target="http://www.ekosilamsk.ru/wp-content/gallery/muravi/muravej_0.jpg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7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8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9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20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21.jpe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993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Monotype Corsiva"/>
              </a:rPr>
              <a:t>Анимированный кроссворд «НАСЕКОМЫ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95280" y="3716280"/>
            <a:ext cx="4816440" cy="19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: Травнева Ольг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спублика Казах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агандин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акаров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ГУ «Средняя школа №21 с. Сарыоз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Пользователь\Documents\кроссворд насекомые\животные\пчёлка.png"/>
          <p:cNvPicPr/>
          <p:nvPr/>
        </p:nvPicPr>
        <p:blipFill>
          <a:blip r:embed="rId1"/>
          <a:stretch/>
        </p:blipFill>
        <p:spPr>
          <a:xfrm rot="935400">
            <a:off x="2142720" y="3286080"/>
            <a:ext cx="1857600" cy="1471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Users\Пользователь\Documents\кроссворд насекомые\животные\пчёлка.png"/>
          <p:cNvPicPr/>
          <p:nvPr/>
        </p:nvPicPr>
        <p:blipFill>
          <a:blip r:embed="rId2"/>
          <a:stretch/>
        </p:blipFill>
        <p:spPr>
          <a:xfrm>
            <a:off x="407880" y="3054240"/>
            <a:ext cx="1927440" cy="1670040"/>
          </a:xfrm>
          <a:prstGeom prst="rect">
            <a:avLst/>
          </a:prstGeom>
          <a:ln w="0">
            <a:noFill/>
          </a:ln>
        </p:spPr>
      </p:pic>
      <p:sp>
        <p:nvSpPr>
          <p:cNvPr id="5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43920" y="650088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28880" y="0"/>
            <a:ext cx="5643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источни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642960"/>
            <a:ext cx="91440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orle.ru/user/pic27053986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бабочка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-fotki.yandex.ru/get/5804/alona-mera777.9/0_8e1d0_8628af03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бабо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file.blog-24.com/utili/90000/88000/88370/file/kelebekler/8863ab60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76.radikal.ru/1005/f5/f75725796053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ж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1.liveinternet.ru/images/attach/c/3/75/508/75508673_280827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кузне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4905/xsi-666.11f/0_43994_f6472f69_XL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пч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forum.materinstvo.ru/uploads/1311662932/post-30446-1311735041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- светля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ekosilamsk.ru/wp-content/gallery/muravi/muravej_0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мура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a4.sphotos.ak.fbcdn.net/hphotos-ak-snc7/299779_179317505473270_149845395087148_408882_2826245_n.jp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  ком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www.proza.ru/pics/2011/06/17/1429.gi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- муравей с лу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http://img-fotki.yandex.ru/get/5606/cadi-1986.517/0_80266_6e17ba8c_XL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- пчё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Вертикальный свиток 59"/>
          <p:cNvGrpSpPr/>
          <p:nvPr/>
        </p:nvGrpSpPr>
        <p:grpSpPr>
          <a:xfrm>
            <a:off x="5694480" y="3687840"/>
            <a:ext cx="3833640" cy="3193920"/>
            <a:chOff x="5694480" y="3687840"/>
            <a:chExt cx="3833640" cy="3193920"/>
          </a:xfrm>
        </p:grpSpPr>
        <p:pic>
          <p:nvPicPr>
            <p:cNvPr id="108" name="Вертикальный свиток 59" descr=""/>
            <p:cNvPicPr/>
            <p:nvPr/>
          </p:nvPicPr>
          <p:blipFill>
            <a:blip r:embed="rId1"/>
            <a:stretch/>
          </p:blipFill>
          <p:spPr>
            <a:xfrm>
              <a:off x="5694480" y="3687840"/>
              <a:ext cx="3833640" cy="31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108840" y="4108320"/>
              <a:ext cx="3000240" cy="25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Спал цвет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и вдруг прос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Больше сп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не захотел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Шевельнулся, встрепенулся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mic Sans MS"/>
                </a:rPr>
                <a:t>Взвился вверх и улетел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61" descr="E:\кроссворд насекомые\животные\муравей2.gif"/>
          <p:cNvPicPr/>
          <p:nvPr/>
        </p:nvPicPr>
        <p:blipFill>
          <a:blip r:embed="rId2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2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686000">
            <a:off x="939240" y="2782440"/>
            <a:ext cx="728280" cy="534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3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8511800">
            <a:off x="7737120" y="990000"/>
            <a:ext cx="962280" cy="704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4" descr="E:\кроссворд насекомые\животные\бабочка3.png"/>
          <p:cNvPicPr/>
          <p:nvPr/>
        </p:nvPicPr>
        <p:blipFill>
          <a:blip r:embed="rId5"/>
          <a:stretch/>
        </p:blipFill>
        <p:spPr>
          <a:xfrm rot="19635000">
            <a:off x="7272360" y="2545920"/>
            <a:ext cx="906480" cy="66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5" descr="E:\кроссворд насекомые\животные\бабочка3.png"/>
          <p:cNvPicPr/>
          <p:nvPr/>
        </p:nvPicPr>
        <p:blipFill>
          <a:blip r:embed="rId6"/>
          <a:stretch/>
        </p:blipFill>
        <p:spPr>
          <a:xfrm rot="20428200">
            <a:off x="74520" y="5116680"/>
            <a:ext cx="797040" cy="58392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8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3011400">
            <a:off x="1385280" y="5090760"/>
            <a:ext cx="1146240" cy="838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0" descr=""/>
          <p:cNvPicPr/>
          <p:nvPr/>
        </p:nvPicPr>
        <p:blipFill>
          <a:blip r:embed="rId8"/>
          <a:stretch/>
        </p:blipFill>
        <p:spPr>
          <a:xfrm>
            <a:off x="214200" y="571680"/>
            <a:ext cx="2708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sp>
        <p:nvSpPr>
          <p:cNvPr id="118" name="Заголовок 82"/>
          <p:cNvSpPr/>
          <p:nvPr/>
        </p:nvSpPr>
        <p:spPr>
          <a:xfrm>
            <a:off x="5000760" y="214200"/>
            <a:ext cx="4284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Управляющая кнопка: далее 86">
            <a:hlinkClick r:id="" action="ppaction://hlinkshowjump?jump=nextslide"/>
          </p:cNvPr>
          <p:cNvSpPr/>
          <p:nvPr/>
        </p:nvSpPr>
        <p:spPr>
          <a:xfrm>
            <a:off x="8215200" y="0"/>
            <a:ext cx="928800" cy="357120"/>
          </a:xfrm>
          <a:custGeom>
            <a:avLst/>
            <a:gdLst>
              <a:gd name="textAreaLeft" fmla="*/ 23040 w 928800"/>
              <a:gd name="textAreaRight" fmla="*/ 905760 w 92880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56143" h="21600">
                <a:moveTo>
                  <a:pt x="0" y="0"/>
                </a:moveTo>
                <a:lnTo>
                  <a:pt x="56143" y="0"/>
                </a:lnTo>
                <a:lnTo>
                  <a:pt x="56143" y="21600"/>
                </a:lnTo>
                <a:lnTo>
                  <a:pt x="0" y="21600"/>
                </a:lnTo>
                <a:close/>
              </a:path>
              <a:path fill="lightenLess" w="56143" h="21600">
                <a:moveTo>
                  <a:pt x="0" y="0"/>
                </a:moveTo>
                <a:lnTo>
                  <a:pt x="56143" y="0"/>
                </a:lnTo>
                <a:lnTo>
                  <a:pt x="54743" y="1400"/>
                </a:lnTo>
                <a:lnTo>
                  <a:pt x="1400" y="1400"/>
                </a:lnTo>
                <a:close/>
              </a:path>
              <a:path fill="darken" w="56143" h="21600">
                <a:moveTo>
                  <a:pt x="56143" y="0"/>
                </a:moveTo>
                <a:lnTo>
                  <a:pt x="56143" y="21600"/>
                </a:lnTo>
                <a:lnTo>
                  <a:pt x="54743" y="20200"/>
                </a:lnTo>
                <a:lnTo>
                  <a:pt x="54743" y="1400"/>
                </a:lnTo>
                <a:close/>
              </a:path>
              <a:path fill="darkenLess" w="56143" h="21600">
                <a:moveTo>
                  <a:pt x="56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43" y="20200"/>
                </a:lnTo>
                <a:close/>
              </a:path>
              <a:path fill="lighten" w="56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43" h="21600">
                <a:moveTo>
                  <a:pt x="21065" y="3794"/>
                </a:moveTo>
                <a:lnTo>
                  <a:pt x="35078" y="10800"/>
                </a:lnTo>
                <a:lnTo>
                  <a:pt x="21065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Вертикальный свиток 61"/>
          <p:cNvSpPr/>
          <p:nvPr/>
        </p:nvSpPr>
        <p:spPr>
          <a:xfrm>
            <a:off x="5786280" y="3714840"/>
            <a:ext cx="37148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то за девчо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поясе т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громные о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тит – стрек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4200">
            <a:off x="853560" y="282672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3800">
            <a:off x="7952040" y="934560"/>
            <a:ext cx="880920" cy="645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4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1176400">
            <a:off x="7251480" y="1980720"/>
            <a:ext cx="887400" cy="650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5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428200">
            <a:off x="289080" y="5258880"/>
            <a:ext cx="796680" cy="584280"/>
          </a:xfrm>
          <a:prstGeom prst="rect">
            <a:avLst/>
          </a:prstGeom>
          <a:ln w="0">
            <a:noFill/>
          </a:ln>
        </p:spPr>
      </p:pic>
      <p:sp>
        <p:nvSpPr>
          <p:cNvPr id="17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72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505240" cy="2085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18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928880" y="471492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7600">
            <a:off x="1706040" y="5424120"/>
            <a:ext cx="1167120" cy="8557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14680" y="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Вертикальный свиток 67"/>
          <p:cNvSpPr/>
          <p:nvPr/>
        </p:nvSpPr>
        <p:spPr>
          <a:xfrm>
            <a:off x="5786280" y="3714840"/>
            <a:ext cx="364356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Ходил рог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а шести х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доль спины себя слом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белые дост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Зажужжал рогу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летел, как пу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673600">
            <a:off x="868680" y="2822040"/>
            <a:ext cx="728640" cy="535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89080" y="5187600"/>
            <a:ext cx="796680" cy="584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489000">
            <a:off x="7610040" y="927000"/>
            <a:ext cx="1120680" cy="821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124760" y="2219040"/>
            <a:ext cx="906480" cy="663480"/>
          </a:xfrm>
          <a:prstGeom prst="rect">
            <a:avLst/>
          </a:prstGeom>
          <a:ln w="0">
            <a:noFill/>
          </a:ln>
        </p:spPr>
      </p:pic>
      <p:sp>
        <p:nvSpPr>
          <p:cNvPr id="24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3" descr=""/>
          <p:cNvPicPr/>
          <p:nvPr/>
        </p:nvPicPr>
        <p:blipFill>
          <a:blip r:embed="rId5"/>
          <a:stretch/>
        </p:blipFill>
        <p:spPr>
          <a:xfrm>
            <a:off x="214200" y="500040"/>
            <a:ext cx="2840040" cy="207180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24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4200">
            <a:off x="1503000" y="5207040"/>
            <a:ext cx="1217520" cy="8920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42840" y="1143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Вертикальный свиток 68"/>
          <p:cNvSpPr/>
          <p:nvPr/>
        </p:nvSpPr>
        <p:spPr>
          <a:xfrm>
            <a:off x="5786280" y="3714840"/>
            <a:ext cx="357192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мя взял у кузне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Цвет – у огур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рылья – у м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жки – у бло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287200">
            <a:off x="729720" y="28112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21744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7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260800">
            <a:off x="7095600" y="2249640"/>
            <a:ext cx="966960" cy="707760"/>
          </a:xfrm>
          <a:prstGeom prst="rect">
            <a:avLst/>
          </a:prstGeom>
          <a:ln w="0">
            <a:noFill/>
          </a:ln>
        </p:spPr>
      </p:pic>
      <p:sp>
        <p:nvSpPr>
          <p:cNvPr id="305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8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054200">
            <a:off x="7554600" y="971280"/>
            <a:ext cx="1050840" cy="768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5" descr="C:\Users\Пользователь\Documents\кроссворд насекомые\животные\кузнечик2.jpg"/>
          <p:cNvPicPr/>
          <p:nvPr/>
        </p:nvPicPr>
        <p:blipFill>
          <a:blip r:embed="rId5"/>
          <a:stretch/>
        </p:blipFill>
        <p:spPr>
          <a:xfrm>
            <a:off x="142920" y="571680"/>
            <a:ext cx="2666880" cy="200016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08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43400">
            <a:off x="1549440" y="5249880"/>
            <a:ext cx="1033560" cy="7588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857680" y="200016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4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1928880" y="4005360"/>
            <a:ext cx="48240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Вертикальный свиток 69"/>
          <p:cNvSpPr/>
          <p:nvPr/>
        </p:nvSpPr>
        <p:spPr>
          <a:xfrm>
            <a:off x="5929200" y="3714840"/>
            <a:ext cx="3500640" cy="314316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ботник садовы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ясок мед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18972600">
            <a:off x="7633800" y="857520"/>
            <a:ext cx="1003320" cy="7365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63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765400">
            <a:off x="874440" y="2628720"/>
            <a:ext cx="806400" cy="590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25924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1168000">
            <a:off x="7126200" y="1993680"/>
            <a:ext cx="935280" cy="685800"/>
          </a:xfrm>
          <a:prstGeom prst="rect">
            <a:avLst/>
          </a:prstGeom>
          <a:ln w="0">
            <a:noFill/>
          </a:ln>
        </p:spPr>
      </p:pic>
      <p:sp>
        <p:nvSpPr>
          <p:cNvPr id="370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7" descr="C:\Users\Пользователь\Documents\кроссворд насекомые\животные\пчела2.jpg"/>
          <p:cNvPicPr/>
          <p:nvPr/>
        </p:nvPicPr>
        <p:blipFill>
          <a:blip r:embed="rId5"/>
          <a:stretch/>
        </p:blipFill>
        <p:spPr>
          <a:xfrm>
            <a:off x="214200" y="571680"/>
            <a:ext cx="2828880" cy="1952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372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36200">
            <a:off x="1429920" y="5132160"/>
            <a:ext cx="1201680" cy="8809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28880" y="24289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7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Вертикальный свиток 70"/>
          <p:cNvSpPr/>
          <p:nvPr/>
        </p:nvSpPr>
        <p:spPr>
          <a:xfrm>
            <a:off x="5857920" y="3786120"/>
            <a:ext cx="350028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Только ноченька наста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 поле вспыхнул огонё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Что там? Тлеет уголё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ли звёздочка упал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726400">
            <a:off x="939960" y="2822040"/>
            <a:ext cx="729000" cy="5349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21309000">
            <a:off x="7101720" y="1899720"/>
            <a:ext cx="1042920" cy="7653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19177200">
            <a:off x="7553160" y="888840"/>
            <a:ext cx="1040040" cy="76212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78" descr="C:\Users\Пользователь\Documents\кроссворд насекомые\животные\святлячок1.jpg"/>
          <p:cNvPicPr/>
          <p:nvPr/>
        </p:nvPicPr>
        <p:blipFill>
          <a:blip r:embed="rId5"/>
          <a:stretch/>
        </p:blipFill>
        <p:spPr>
          <a:xfrm>
            <a:off x="214200" y="571680"/>
            <a:ext cx="2643480" cy="211428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436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56600">
            <a:off x="1508040" y="5144760"/>
            <a:ext cx="1255680" cy="92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3880" y="3642840"/>
            <a:ext cx="42876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Вертикальный свиток 71"/>
          <p:cNvSpPr/>
          <p:nvPr/>
        </p:nvSpPr>
        <p:spPr>
          <a:xfrm>
            <a:off x="6000840" y="3786120"/>
            <a:ext cx="335736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ернокожий карап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е по росту тянет гр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3180600">
            <a:off x="996480" y="275544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4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18704400">
            <a:off x="7785720" y="847080"/>
            <a:ext cx="1116000" cy="819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5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731800">
            <a:off x="7035840" y="2076120"/>
            <a:ext cx="1012680" cy="743040"/>
          </a:xfrm>
          <a:prstGeom prst="rect">
            <a:avLst/>
          </a:prstGeom>
          <a:ln w="0">
            <a:noFill/>
          </a:ln>
        </p:spPr>
      </p:pic>
      <p:sp>
        <p:nvSpPr>
          <p:cNvPr id="498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9" descr=""/>
          <p:cNvPicPr/>
          <p:nvPr/>
        </p:nvPicPr>
        <p:blipFill>
          <a:blip r:embed="rId5"/>
          <a:stretch/>
        </p:blipFill>
        <p:spPr>
          <a:xfrm>
            <a:off x="214200" y="571680"/>
            <a:ext cx="2714760" cy="200484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00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576400">
            <a:off x="1427040" y="5152680"/>
            <a:ext cx="1216080" cy="8920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57880" y="3357720"/>
            <a:ext cx="428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Управляющая кнопка: далее 83">
            <a:hlinkClick r:id="" action="ppaction://hlinkshowjump?jump=nextslide"/>
          </p:cNvPr>
          <p:cNvSpPr/>
          <p:nvPr/>
        </p:nvSpPr>
        <p:spPr>
          <a:xfrm>
            <a:off x="8143920" y="0"/>
            <a:ext cx="1000080" cy="357120"/>
          </a:xfrm>
          <a:custGeom>
            <a:avLst/>
            <a:gdLst>
              <a:gd name="textAreaLeft" fmla="*/ 23040 w 1000080"/>
              <a:gd name="textAreaRight" fmla="*/ 977040 w 10000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60450" h="21600">
                <a:moveTo>
                  <a:pt x="0" y="0"/>
                </a:moveTo>
                <a:lnTo>
                  <a:pt x="60450" y="0"/>
                </a:lnTo>
                <a:lnTo>
                  <a:pt x="60450" y="21600"/>
                </a:lnTo>
                <a:lnTo>
                  <a:pt x="0" y="21600"/>
                </a:lnTo>
                <a:close/>
              </a:path>
              <a:path fill="lightenLess" w="60450" h="21600">
                <a:moveTo>
                  <a:pt x="0" y="0"/>
                </a:moveTo>
                <a:lnTo>
                  <a:pt x="60450" y="0"/>
                </a:lnTo>
                <a:lnTo>
                  <a:pt x="59050" y="1400"/>
                </a:lnTo>
                <a:lnTo>
                  <a:pt x="1400" y="1400"/>
                </a:lnTo>
                <a:close/>
              </a:path>
              <a:path fill="darken" w="60450" h="21600">
                <a:moveTo>
                  <a:pt x="60450" y="0"/>
                </a:moveTo>
                <a:lnTo>
                  <a:pt x="60450" y="21600"/>
                </a:lnTo>
                <a:lnTo>
                  <a:pt x="59050" y="20200"/>
                </a:lnTo>
                <a:lnTo>
                  <a:pt x="59050" y="1400"/>
                </a:lnTo>
                <a:close/>
              </a:path>
              <a:path fill="darkenLess" w="60450" h="21600">
                <a:moveTo>
                  <a:pt x="60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50" y="20200"/>
                </a:lnTo>
                <a:close/>
              </a:path>
              <a:path fill="lighten" w="60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450" h="21600">
                <a:moveTo>
                  <a:pt x="23218" y="3794"/>
                </a:moveTo>
                <a:lnTo>
                  <a:pt x="37231" y="10800"/>
                </a:lnTo>
                <a:lnTo>
                  <a:pt x="23218" y="17806"/>
                </a:lnTo>
                <a:close/>
              </a:path>
            </a:pathLst>
          </a:custGeom>
          <a:solidFill>
            <a:srgbClr val="33cc33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59"/>
          <p:cNvSpPr/>
          <p:nvPr/>
        </p:nvSpPr>
        <p:spPr>
          <a:xfrm>
            <a:off x="1908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8"/>
          <p:cNvSpPr/>
          <p:nvPr/>
        </p:nvSpPr>
        <p:spPr>
          <a:xfrm>
            <a:off x="1908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55"/>
          <p:cNvSpPr/>
          <p:nvPr/>
        </p:nvSpPr>
        <p:spPr>
          <a:xfrm>
            <a:off x="104292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52"/>
          <p:cNvSpPr/>
          <p:nvPr/>
        </p:nvSpPr>
        <p:spPr>
          <a:xfrm>
            <a:off x="147636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53"/>
          <p:cNvSpPr/>
          <p:nvPr/>
        </p:nvSpPr>
        <p:spPr>
          <a:xfrm>
            <a:off x="1908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4"/>
          <p:cNvSpPr/>
          <p:nvPr/>
        </p:nvSpPr>
        <p:spPr>
          <a:xfrm>
            <a:off x="2340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48"/>
          <p:cNvSpPr/>
          <p:nvPr/>
        </p:nvSpPr>
        <p:spPr>
          <a:xfrm>
            <a:off x="2771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9"/>
          <p:cNvSpPr/>
          <p:nvPr/>
        </p:nvSpPr>
        <p:spPr>
          <a:xfrm>
            <a:off x="320364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50"/>
          <p:cNvSpPr/>
          <p:nvPr/>
        </p:nvSpPr>
        <p:spPr>
          <a:xfrm>
            <a:off x="3635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51"/>
          <p:cNvSpPr/>
          <p:nvPr/>
        </p:nvSpPr>
        <p:spPr>
          <a:xfrm>
            <a:off x="406728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47"/>
          <p:cNvSpPr/>
          <p:nvPr/>
        </p:nvSpPr>
        <p:spPr>
          <a:xfrm>
            <a:off x="363528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4"/>
          <p:cNvSpPr/>
          <p:nvPr/>
        </p:nvSpPr>
        <p:spPr>
          <a:xfrm>
            <a:off x="3203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5"/>
          <p:cNvSpPr/>
          <p:nvPr/>
        </p:nvSpPr>
        <p:spPr>
          <a:xfrm>
            <a:off x="3635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46"/>
          <p:cNvSpPr/>
          <p:nvPr/>
        </p:nvSpPr>
        <p:spPr>
          <a:xfrm>
            <a:off x="406728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42"/>
          <p:cNvSpPr/>
          <p:nvPr/>
        </p:nvSpPr>
        <p:spPr>
          <a:xfrm>
            <a:off x="622764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0"/>
          <p:cNvSpPr/>
          <p:nvPr/>
        </p:nvSpPr>
        <p:spPr>
          <a:xfrm>
            <a:off x="622764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41"/>
          <p:cNvSpPr/>
          <p:nvPr/>
        </p:nvSpPr>
        <p:spPr>
          <a:xfrm>
            <a:off x="622764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0"/>
          <p:cNvSpPr/>
          <p:nvPr/>
        </p:nvSpPr>
        <p:spPr>
          <a:xfrm>
            <a:off x="5364000" y="6165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3"/>
          <p:cNvSpPr/>
          <p:nvPr/>
        </p:nvSpPr>
        <p:spPr>
          <a:xfrm>
            <a:off x="5364000" y="57340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5364000" y="5300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4"/>
          <p:cNvSpPr/>
          <p:nvPr/>
        </p:nvSpPr>
        <p:spPr>
          <a:xfrm>
            <a:off x="5364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5364000" y="2276640"/>
            <a:ext cx="50328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8"/>
          <p:cNvSpPr/>
          <p:nvPr/>
        </p:nvSpPr>
        <p:spPr>
          <a:xfrm>
            <a:off x="3635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9"/>
          <p:cNvSpPr/>
          <p:nvPr/>
        </p:nvSpPr>
        <p:spPr>
          <a:xfrm>
            <a:off x="406728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/>
          <p:cNvSpPr/>
          <p:nvPr/>
        </p:nvSpPr>
        <p:spPr>
          <a:xfrm>
            <a:off x="4500720" y="52862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4500720" y="4869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/>
          <p:cNvSpPr/>
          <p:nvPr/>
        </p:nvSpPr>
        <p:spPr>
          <a:xfrm>
            <a:off x="4500720" y="443700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/>
          <p:cNvSpPr/>
          <p:nvPr/>
        </p:nvSpPr>
        <p:spPr>
          <a:xfrm>
            <a:off x="4500720" y="4005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4500720" y="357336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/>
          <p:cNvSpPr/>
          <p:nvPr/>
        </p:nvSpPr>
        <p:spPr>
          <a:xfrm>
            <a:off x="4500720" y="314172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/>
          <p:cNvSpPr/>
          <p:nvPr/>
        </p:nvSpPr>
        <p:spPr>
          <a:xfrm>
            <a:off x="4500720" y="270828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/>
          <p:cNvSpPr/>
          <p:nvPr/>
        </p:nvSpPr>
        <p:spPr>
          <a:xfrm>
            <a:off x="4500720" y="2276640"/>
            <a:ext cx="502920" cy="502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>
            <a:off x="4500720" y="1844640"/>
            <a:ext cx="50292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13"/>
          <p:cNvSpPr/>
          <p:nvPr/>
        </p:nvSpPr>
        <p:spPr>
          <a:xfrm>
            <a:off x="493236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4"/>
          <p:cNvSpPr/>
          <p:nvPr/>
        </p:nvSpPr>
        <p:spPr>
          <a:xfrm>
            <a:off x="5364000" y="486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5"/>
          <p:cNvSpPr/>
          <p:nvPr/>
        </p:nvSpPr>
        <p:spPr>
          <a:xfrm>
            <a:off x="5364000" y="4437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6"/>
          <p:cNvSpPr/>
          <p:nvPr/>
        </p:nvSpPr>
        <p:spPr>
          <a:xfrm>
            <a:off x="5364000" y="4005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7"/>
          <p:cNvSpPr/>
          <p:nvPr/>
        </p:nvSpPr>
        <p:spPr>
          <a:xfrm>
            <a:off x="5364000" y="3573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20"/>
          <p:cNvSpPr/>
          <p:nvPr/>
        </p:nvSpPr>
        <p:spPr>
          <a:xfrm>
            <a:off x="493236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21"/>
          <p:cNvSpPr/>
          <p:nvPr/>
        </p:nvSpPr>
        <p:spPr>
          <a:xfrm>
            <a:off x="5364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22"/>
          <p:cNvSpPr/>
          <p:nvPr/>
        </p:nvSpPr>
        <p:spPr>
          <a:xfrm>
            <a:off x="579600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9"/>
          <p:cNvSpPr/>
          <p:nvPr/>
        </p:nvSpPr>
        <p:spPr>
          <a:xfrm>
            <a:off x="536400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28"/>
          <p:cNvSpPr/>
          <p:nvPr/>
        </p:nvSpPr>
        <p:spPr>
          <a:xfrm>
            <a:off x="536400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27"/>
          <p:cNvSpPr/>
          <p:nvPr/>
        </p:nvSpPr>
        <p:spPr>
          <a:xfrm>
            <a:off x="536400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34"/>
          <p:cNvSpPr/>
          <p:nvPr/>
        </p:nvSpPr>
        <p:spPr>
          <a:xfrm>
            <a:off x="536400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227640" y="184464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6"/>
          <p:cNvSpPr/>
          <p:nvPr/>
        </p:nvSpPr>
        <p:spPr>
          <a:xfrm>
            <a:off x="622764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7"/>
          <p:cNvSpPr/>
          <p:nvPr/>
        </p:nvSpPr>
        <p:spPr>
          <a:xfrm>
            <a:off x="6227640" y="981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38"/>
          <p:cNvSpPr/>
          <p:nvPr/>
        </p:nvSpPr>
        <p:spPr>
          <a:xfrm>
            <a:off x="6227640" y="54936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9"/>
          <p:cNvSpPr/>
          <p:nvPr/>
        </p:nvSpPr>
        <p:spPr>
          <a:xfrm>
            <a:off x="6227640" y="189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3"/>
          <p:cNvSpPr/>
          <p:nvPr/>
        </p:nvSpPr>
        <p:spPr>
          <a:xfrm>
            <a:off x="3635280" y="141300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6"/>
          <p:cNvSpPr/>
          <p:nvPr/>
        </p:nvSpPr>
        <p:spPr>
          <a:xfrm>
            <a:off x="1908000" y="314172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57"/>
          <p:cNvSpPr/>
          <p:nvPr/>
        </p:nvSpPr>
        <p:spPr>
          <a:xfrm>
            <a:off x="1908000" y="2708280"/>
            <a:ext cx="503280" cy="503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ертикальный свиток 72"/>
          <p:cNvSpPr/>
          <p:nvPr/>
        </p:nvSpPr>
        <p:spPr>
          <a:xfrm>
            <a:off x="5786280" y="3786120"/>
            <a:ext cx="3571920" cy="3071880"/>
          </a:xfrm>
          <a:prstGeom prst="verticalScroll">
            <a:avLst>
              <a:gd name="adj" fmla="val 12500"/>
            </a:avLst>
          </a:prstGeom>
          <a:solidFill>
            <a:srgbClr val="33cc33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и зверь, н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 нос как сп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етит – крич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ядет – мол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Кто его убьё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ою кровь проль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62" descr="E:\кроссворд насекомые\животные\бабочка3.png"/>
          <p:cNvPicPr/>
          <p:nvPr/>
        </p:nvPicPr>
        <p:blipFill>
          <a:blip r:embed="rId1"/>
          <a:stretch/>
        </p:blipFill>
        <p:spPr>
          <a:xfrm flipH="1" rot="2922000">
            <a:off x="1006200" y="2754000"/>
            <a:ext cx="728640" cy="5349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65" descr="E:\кроссворд насекомые\животные\бабочка3.png"/>
          <p:cNvPicPr/>
          <p:nvPr/>
        </p:nvPicPr>
        <p:blipFill>
          <a:blip r:embed="rId2"/>
          <a:stretch/>
        </p:blipFill>
        <p:spPr>
          <a:xfrm rot="20428200">
            <a:off x="74520" y="5187960"/>
            <a:ext cx="797040" cy="584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66" descr="E:\кроссворд насекомые\животные\бабочка3.png"/>
          <p:cNvPicPr/>
          <p:nvPr/>
        </p:nvPicPr>
        <p:blipFill>
          <a:blip r:embed="rId3"/>
          <a:stretch/>
        </p:blipFill>
        <p:spPr>
          <a:xfrm flipH="1" rot="18371400">
            <a:off x="7804800" y="965520"/>
            <a:ext cx="990720" cy="726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7" descr="E:\кроссворд насекомые\животные\бабочка3.png"/>
          <p:cNvPicPr/>
          <p:nvPr/>
        </p:nvPicPr>
        <p:blipFill>
          <a:blip r:embed="rId4"/>
          <a:stretch/>
        </p:blipFill>
        <p:spPr>
          <a:xfrm rot="20260800">
            <a:off x="7025760" y="2155320"/>
            <a:ext cx="1055880" cy="774720"/>
          </a:xfrm>
          <a:prstGeom prst="rect">
            <a:avLst/>
          </a:prstGeom>
          <a:ln w="0">
            <a:noFill/>
          </a:ln>
        </p:spPr>
      </p:pic>
      <p:sp>
        <p:nvSpPr>
          <p:cNvPr id="562" name="Скругленный прямоугольник 80"/>
          <p:cNvSpPr/>
          <p:nvPr/>
        </p:nvSpPr>
        <p:spPr>
          <a:xfrm>
            <a:off x="1214280" y="6500880"/>
            <a:ext cx="3286440" cy="3571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Муравьишка подска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0" descr="C:\Users\Пользователь\Documents\кроссворд насекомые\животные\комар1.jpg"/>
          <p:cNvPicPr/>
          <p:nvPr/>
        </p:nvPicPr>
        <p:blipFill>
          <a:blip r:embed="rId5"/>
          <a:stretch/>
        </p:blipFill>
        <p:spPr>
          <a:xfrm>
            <a:off x="214200" y="571680"/>
            <a:ext cx="2897280" cy="1928520"/>
          </a:xfrm>
          <a:prstGeom prst="rect">
            <a:avLst/>
          </a:prstGeom>
          <a:ln w="38160">
            <a:solidFill>
              <a:srgbClr val="009900"/>
            </a:solidFill>
            <a:miter/>
          </a:ln>
        </p:spPr>
      </p:pic>
      <p:pic>
        <p:nvPicPr>
          <p:cNvPr id="564" name="Picture 61" descr="E:\кроссворд насекомые\животные\муравей2.gif"/>
          <p:cNvPicPr/>
          <p:nvPr/>
        </p:nvPicPr>
        <p:blipFill>
          <a:blip r:embed="rId6"/>
          <a:stretch/>
        </p:blipFill>
        <p:spPr>
          <a:xfrm>
            <a:off x="1801800" y="4643280"/>
            <a:ext cx="2016000" cy="17859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9" descr="E:\кроссворд насекомые\животные\бабочка3.png"/>
          <p:cNvPicPr/>
          <p:nvPr/>
        </p:nvPicPr>
        <p:blipFill>
          <a:blip r:embed="rId7"/>
          <a:stretch/>
        </p:blipFill>
        <p:spPr>
          <a:xfrm rot="2278800">
            <a:off x="1430280" y="5208480"/>
            <a:ext cx="1212840" cy="8892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85720" y="4572000"/>
            <a:ext cx="42876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6:00:07Z</dcterms:created>
  <dc:creator>ww</dc:creator>
  <dc:description/>
  <dc:language>en-US</dc:language>
  <cp:lastModifiedBy>Пользователь</cp:lastModifiedBy>
  <dcterms:modified xsi:type="dcterms:W3CDTF">2012-03-26T14:54:06Z</dcterms:modified>
  <cp:revision>32</cp:revision>
  <dc:subject/>
  <dc:title>Анимированный кроссворд «НАСЕКОМЫЕ»</dc:title>
</cp:coreProperties>
</file>