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475F-8F23-4911-BE2B-3076D4196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5DAB-9945-45A1-8F0F-A887096D4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7BF9-F7F5-4B9F-BB31-D6432FFC2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411A-E279-4FCE-B183-5FAC5080B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B309-A9FF-4FD4-BFD3-41C883146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A385-B1BF-4974-9BE0-0AB5D0B94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9221-5F4F-4F3E-B961-59018001C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3761-8B5F-4966-8002-E714A8E25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30E9-21F2-4407-9298-FBD12A5B8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2B5-955C-474D-8A3A-D6D431E1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9FC-3C73-4375-AC94-E5DC7964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FB3-0EE1-4A20-8215-35585DAE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95F-F7C2-4F07-8DF0-5899E1A6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BFB-7C5D-45B4-84F8-1E2883A7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F86-4382-4C84-B876-D1120117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7F3-0510-433C-8987-AB25FC73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C48-1539-402F-88B7-0D102F94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693-C59F-4CBD-9C2E-EF45483A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277-F337-4D24-A6C4-85C3240A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2E5-9178-459E-A96A-7925D81F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434-3A1D-48DC-8665-C0933794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D8DF-5A94-4A6E-9369-0F1C227FA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rle.ru/user/pic27053986.jpg" TargetMode="External"/><Relationship Id="rId2" Type="http://schemas.openxmlformats.org/officeDocument/2006/relationships/hyperlink" Target="http://img-fotki.yandex.ru/get/5804/alona-mera777.9/0_8e1d0_8628af03_XL" TargetMode="External"/><Relationship Id="rId3" Type="http://schemas.openxmlformats.org/officeDocument/2006/relationships/hyperlink" Target="http://file.blog-24.com/utili/90000/88000/88370/file/kelebekler/8863ab60.gif" TargetMode="External"/><Relationship Id="rId4" Type="http://schemas.openxmlformats.org/officeDocument/2006/relationships/hyperlink" Target="http://i076.radikal.ru/1005/f5/f75725796053.jpg" TargetMode="External"/><Relationship Id="rId5" Type="http://schemas.openxmlformats.org/officeDocument/2006/relationships/hyperlink" Target="http://img1.liveinternet.ru/images/attach/c/3/75/508/75508673_280827.jpg" TargetMode="External"/><Relationship Id="rId6" Type="http://schemas.openxmlformats.org/officeDocument/2006/relationships/hyperlink" Target="http://img-fotki.yandex.ru/get/4905/xsi-666.11f/0_43994_f6472f69_XL.jpg" TargetMode="External"/><Relationship Id="rId7" Type="http://schemas.openxmlformats.org/officeDocument/2006/relationships/hyperlink" Target="http://forum.materinstvo.ru/uploads/1311662932/post-30446-1311735041.jpg" TargetMode="External"/><Relationship Id="rId8" Type="http://schemas.openxmlformats.org/officeDocument/2006/relationships/hyperlink" Target="http://www.ekosilamsk.ru/wp-content/gallery/muravi/muravej_0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7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8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9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1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Анимированный кроссворд «НАСЕКОМЫ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280" y="3716280"/>
            <a:ext cx="481644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: Травнева Ольг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а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ганд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кар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ГУ «Средняя школа №21 с. Сарыоз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Пользователь\Documents\кроссворд насекомые\животные\пчёлка.png"/>
          <p:cNvPicPr/>
          <p:nvPr/>
        </p:nvPicPr>
        <p:blipFill>
          <a:blip r:embed="rId1"/>
          <a:stretch/>
        </p:blipFill>
        <p:spPr>
          <a:xfrm rot="935400">
            <a:off x="2142720" y="3286080"/>
            <a:ext cx="185760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Пользователь\Documents\кроссворд насекомые\животные\пчёлка.png"/>
          <p:cNvPicPr/>
          <p:nvPr/>
        </p:nvPicPr>
        <p:blipFill>
          <a:blip r:embed="rId2"/>
          <a:stretch/>
        </p:blipFill>
        <p:spPr>
          <a:xfrm>
            <a:off x="407880" y="3054240"/>
            <a:ext cx="192744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650088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28880" y="0"/>
            <a:ext cx="5643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orle.ru/user/pic27053986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бабочка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804/alona-mera777.9/0_8e1d0_8628af03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бабоч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ile.blog-24.com/utili/90000/88000/88370/file/kelebekler/8863ab60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076.radikal.ru/1005/f5/f75725796053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1.liveinternet.ru/images/attach/c/3/75/508/75508673_280827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кузне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-fotki.yandex.ru/get/4905/xsi-666.11f/0_43994_f6472f69_XL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forum.materinstvo.ru/uploads/1311662932/post-30446-1311735041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- светля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kosilamsk.ru/wp-content/gallery/muravi/muravej_0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мура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a4.sphotos.ak.fbcdn.net/hphotos-ak-snc7/299779_179317505473270_149845395087148_408882_2826245_n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 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roza.ru/pics/2011/06/17/1429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муравей с л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g-fotki.yandex.ru/get/5606/cadi-1986.517/0_80266_6e17ba8c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пч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ертикальный свиток 59"/>
          <p:cNvGrpSpPr/>
          <p:nvPr/>
        </p:nvGrpSpPr>
        <p:grpSpPr>
          <a:xfrm>
            <a:off x="5694480" y="3687840"/>
            <a:ext cx="3833640" cy="3193920"/>
            <a:chOff x="5694480" y="3687840"/>
            <a:chExt cx="3833640" cy="3193920"/>
          </a:xfrm>
        </p:grpSpPr>
        <p:pic>
          <p:nvPicPr>
            <p:cNvPr id="108" name="Вертикальный свиток 59" descr=""/>
            <p:cNvPicPr/>
            <p:nvPr/>
          </p:nvPicPr>
          <p:blipFill>
            <a:blip r:embed="rId1"/>
            <a:stretch/>
          </p:blipFill>
          <p:spPr>
            <a:xfrm>
              <a:off x="5694480" y="3687840"/>
              <a:ext cx="383364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108840" y="4108320"/>
              <a:ext cx="30002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пал цвет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 вдруг прос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Больше сп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е захотел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Шевельнулся, встрепе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Взвился вверх и улетел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61" descr="E:\кроссворд насекомые\животные\муравей2.gif"/>
          <p:cNvPicPr/>
          <p:nvPr/>
        </p:nvPicPr>
        <p:blipFill>
          <a:blip r:embed="rId2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2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686000">
            <a:off x="939240" y="2782440"/>
            <a:ext cx="728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3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8511800">
            <a:off x="7737120" y="990000"/>
            <a:ext cx="962280" cy="7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4" descr="E:\кроссворд насекомые\животные\бабочка3.png"/>
          <p:cNvPicPr/>
          <p:nvPr/>
        </p:nvPicPr>
        <p:blipFill>
          <a:blip r:embed="rId5"/>
          <a:stretch/>
        </p:blipFill>
        <p:spPr>
          <a:xfrm rot="19635000">
            <a:off x="7272360" y="2545920"/>
            <a:ext cx="90648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5" descr="E:\кроссворд насекомые\животные\бабочка3.png"/>
          <p:cNvPicPr/>
          <p:nvPr/>
        </p:nvPicPr>
        <p:blipFill>
          <a:blip r:embed="rId6"/>
          <a:stretch/>
        </p:blipFill>
        <p:spPr>
          <a:xfrm rot="20428200">
            <a:off x="74520" y="5116680"/>
            <a:ext cx="797040" cy="58392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8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3011400">
            <a:off x="1385280" y="5090760"/>
            <a:ext cx="1146240" cy="83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"/>
          <p:cNvPicPr/>
          <p:nvPr/>
        </p:nvPicPr>
        <p:blipFill>
          <a:blip r:embed="rId8"/>
          <a:stretch/>
        </p:blipFill>
        <p:spPr>
          <a:xfrm>
            <a:off x="214200" y="571680"/>
            <a:ext cx="2708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18" name="Заголовок 82"/>
          <p:cNvSpPr/>
          <p:nvPr/>
        </p:nvSpPr>
        <p:spPr>
          <a:xfrm>
            <a:off x="5000760" y="21420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далее 86">
            <a:hlinkClick r:id="" action="ppaction://hlinkshowjump?jump=nextslide"/>
          </p:cNvPr>
          <p:cNvSpPr/>
          <p:nvPr/>
        </p:nvSpPr>
        <p:spPr>
          <a:xfrm>
            <a:off x="8215200" y="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3794"/>
                </a:moveTo>
                <a:lnTo>
                  <a:pt x="35078" y="10800"/>
                </a:lnTo>
                <a:lnTo>
                  <a:pt x="21065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Вертикальный свиток 61"/>
          <p:cNvSpPr/>
          <p:nvPr/>
        </p:nvSpPr>
        <p:spPr>
          <a:xfrm>
            <a:off x="5786280" y="3714840"/>
            <a:ext cx="37148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за девчо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поясе т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громные о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тит – стрек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4200">
            <a:off x="853560" y="282672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3800">
            <a:off x="7952040" y="934560"/>
            <a:ext cx="880920" cy="645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4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1176400">
            <a:off x="7251480" y="1980720"/>
            <a:ext cx="887400" cy="6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5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428200">
            <a:off x="289080" y="5258880"/>
            <a:ext cx="796680" cy="584280"/>
          </a:xfrm>
          <a:prstGeom prst="rect">
            <a:avLst/>
          </a:prstGeom>
          <a:ln w="0">
            <a:noFill/>
          </a:ln>
        </p:spPr>
      </p:pic>
      <p:sp>
        <p:nvSpPr>
          <p:cNvPr id="17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2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505240" cy="2085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8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928880" y="471492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7600">
            <a:off x="1706040" y="5424120"/>
            <a:ext cx="1167120" cy="855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14680" y="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ертикальный свиток 67"/>
          <p:cNvSpPr/>
          <p:nvPr/>
        </p:nvSpPr>
        <p:spPr>
          <a:xfrm>
            <a:off x="5786280" y="3714840"/>
            <a:ext cx="364356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дил рог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шести х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доль спины себя слом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белые дост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жужжал рогу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тел, как п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673600">
            <a:off x="868680" y="282204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89080" y="5187600"/>
            <a:ext cx="796680" cy="584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489000">
            <a:off x="7610040" y="927000"/>
            <a:ext cx="1120680" cy="821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124760" y="22190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3" descr=""/>
          <p:cNvPicPr/>
          <p:nvPr/>
        </p:nvPicPr>
        <p:blipFill>
          <a:blip r:embed="rId5"/>
          <a:stretch/>
        </p:blipFill>
        <p:spPr>
          <a:xfrm>
            <a:off x="214200" y="500040"/>
            <a:ext cx="2840040" cy="20718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4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4200">
            <a:off x="1503000" y="5207040"/>
            <a:ext cx="1217520" cy="892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2840" y="1143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Вертикальный свиток 68"/>
          <p:cNvSpPr/>
          <p:nvPr/>
        </p:nvSpPr>
        <p:spPr>
          <a:xfrm>
            <a:off x="5786280" y="3714840"/>
            <a:ext cx="357192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я взял у кузне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вет – у огур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– у м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жки – у бл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287200">
            <a:off x="729720" y="28112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1744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7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260800">
            <a:off x="7095600" y="2249640"/>
            <a:ext cx="966960" cy="707760"/>
          </a:xfrm>
          <a:prstGeom prst="rect">
            <a:avLst/>
          </a:prstGeom>
          <a:ln w="0">
            <a:noFill/>
          </a:ln>
        </p:spPr>
      </p:pic>
      <p:sp>
        <p:nvSpPr>
          <p:cNvPr id="30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8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054200">
            <a:off x="7554600" y="971280"/>
            <a:ext cx="1050840" cy="768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5" descr="C:\Users\Пользователь\Documents\кроссворд насекомые\животные\кузнечик2.jpg"/>
          <p:cNvPicPr/>
          <p:nvPr/>
        </p:nvPicPr>
        <p:blipFill>
          <a:blip r:embed="rId5"/>
          <a:stretch/>
        </p:blipFill>
        <p:spPr>
          <a:xfrm>
            <a:off x="142920" y="571680"/>
            <a:ext cx="2666880" cy="2000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08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3400">
            <a:off x="1549440" y="5249880"/>
            <a:ext cx="1033560" cy="758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57680" y="200016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8"/>
          <p:cNvSpPr/>
          <p:nvPr/>
        </p:nvSpPr>
        <p:spPr>
          <a:xfrm>
            <a:off x="1928880" y="4005360"/>
            <a:ext cx="48240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ертикальный свиток 69"/>
          <p:cNvSpPr/>
          <p:nvPr/>
        </p:nvSpPr>
        <p:spPr>
          <a:xfrm>
            <a:off x="5929200" y="3714840"/>
            <a:ext cx="35006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ботник садовы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ясок мед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18972600">
            <a:off x="7633800" y="857520"/>
            <a:ext cx="1003320" cy="736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765400">
            <a:off x="874440" y="2628720"/>
            <a:ext cx="806400" cy="59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1168000">
            <a:off x="7126200" y="1993680"/>
            <a:ext cx="935280" cy="685800"/>
          </a:xfrm>
          <a:prstGeom prst="rect">
            <a:avLst/>
          </a:prstGeom>
          <a:ln w="0">
            <a:noFill/>
          </a:ln>
        </p:spPr>
      </p:pic>
      <p:sp>
        <p:nvSpPr>
          <p:cNvPr id="370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7" descr="C:\Users\Пользователь\Documents\кроссворд насекомые\животные\пчела2.jpg"/>
          <p:cNvPicPr/>
          <p:nvPr/>
        </p:nvPicPr>
        <p:blipFill>
          <a:blip r:embed="rId5"/>
          <a:stretch/>
        </p:blipFill>
        <p:spPr>
          <a:xfrm>
            <a:off x="214200" y="571680"/>
            <a:ext cx="2828880" cy="1952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72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36200">
            <a:off x="1429920" y="5132160"/>
            <a:ext cx="1201680" cy="880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28880" y="24289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Вертикальный свиток 70"/>
          <p:cNvSpPr/>
          <p:nvPr/>
        </p:nvSpPr>
        <p:spPr>
          <a:xfrm>
            <a:off x="5857920" y="378612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лько ноченька нас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оле вспыхнул огон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там? Тлеет уголё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звёздочка упа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726400">
            <a:off x="939960" y="28220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21309000">
            <a:off x="7101720" y="1899720"/>
            <a:ext cx="1042920" cy="765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177200">
            <a:off x="7553160" y="888840"/>
            <a:ext cx="1040040" cy="76212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78" descr="C:\Users\Пользователь\Documents\кроссворд насекомые\животные\святлячок1.jpg"/>
          <p:cNvPicPr/>
          <p:nvPr/>
        </p:nvPicPr>
        <p:blipFill>
          <a:blip r:embed="rId5"/>
          <a:stretch/>
        </p:blipFill>
        <p:spPr>
          <a:xfrm>
            <a:off x="214200" y="571680"/>
            <a:ext cx="2643480" cy="2114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36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6600">
            <a:off x="1508040" y="5144760"/>
            <a:ext cx="1255680" cy="92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3880" y="3642840"/>
            <a:ext cx="42876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Вертикальный свиток 71"/>
          <p:cNvSpPr/>
          <p:nvPr/>
        </p:nvSpPr>
        <p:spPr>
          <a:xfrm>
            <a:off x="6000840" y="3786120"/>
            <a:ext cx="335736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рнокожий карап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о росту тянет гр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0600">
            <a:off x="996480" y="275544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4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4400">
            <a:off x="7785720" y="847080"/>
            <a:ext cx="1116000" cy="819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731800">
            <a:off x="7035840" y="2076120"/>
            <a:ext cx="1012680" cy="743040"/>
          </a:xfrm>
          <a:prstGeom prst="rect">
            <a:avLst/>
          </a:prstGeom>
          <a:ln w="0">
            <a:noFill/>
          </a:ln>
        </p:spPr>
      </p:pic>
      <p:sp>
        <p:nvSpPr>
          <p:cNvPr id="49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9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714760" cy="2004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0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76400">
            <a:off x="1427040" y="5152680"/>
            <a:ext cx="1216080" cy="8920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57880" y="33577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Вертикальный свиток 72"/>
          <p:cNvSpPr/>
          <p:nvPr/>
        </p:nvSpPr>
        <p:spPr>
          <a:xfrm>
            <a:off x="5786280" y="3786120"/>
            <a:ext cx="357192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зверь, ни пт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нос как сп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тит – кри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ядет – 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то его убьё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ю кровь проль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922000">
            <a:off x="1006200" y="275400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371400">
            <a:off x="7804800" y="965520"/>
            <a:ext cx="990720" cy="726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025760" y="2155320"/>
            <a:ext cx="1055880" cy="774720"/>
          </a:xfrm>
          <a:prstGeom prst="rect">
            <a:avLst/>
          </a:prstGeom>
          <a:ln w="0">
            <a:noFill/>
          </a:ln>
        </p:spPr>
      </p:pic>
      <p:sp>
        <p:nvSpPr>
          <p:cNvPr id="56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0" descr="C:\Users\Пользователь\Documents\кроссворд насекомые\животные\комар1.jpg"/>
          <p:cNvPicPr/>
          <p:nvPr/>
        </p:nvPicPr>
        <p:blipFill>
          <a:blip r:embed="rId5"/>
          <a:stretch/>
        </p:blipFill>
        <p:spPr>
          <a:xfrm>
            <a:off x="214200" y="571680"/>
            <a:ext cx="2897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6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78800">
            <a:off x="1430280" y="5208480"/>
            <a:ext cx="1212840" cy="8892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85720" y="4572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00:07Z</dcterms:created>
  <dc:creator>ww</dc:creator>
  <dc:description/>
  <dc:language>en-US</dc:language>
  <cp:lastModifiedBy>Пользователь</cp:lastModifiedBy>
  <dcterms:modified xsi:type="dcterms:W3CDTF">2012-03-26T14:54:06Z</dcterms:modified>
  <cp:revision>32</cp:revision>
  <dc:subject/>
  <dc:title>Анимированный кроссворд «НАСЕКОМЫЕ»</dc:title>
</cp:coreProperties>
</file>